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F0CF-D62A-42D4-8BAB-B234A548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92E-3A99-4F4F-9E3E-32355E86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E1D-C3E2-41B8-9890-054138486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C5D2-1819-4A13-9350-E01719C33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AB8205-A691-4F65-925F-39FB10000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371D3-8000-478C-941F-41C7CD87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B443B-7F27-4740-98A7-8939D9200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54BDDA-6270-429F-A77A-2C58B638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3DBB1E-614F-4B42-8005-733FABDF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47DFC-EEB4-4F84-9B00-DFEBD5D4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FA8C0C-D634-4BF7-B82F-154D617B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48F1-0601-4F7D-8CAD-6D72128C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F9D28-E7A7-4620-9045-E411DDA0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458336-9E7D-4748-A457-75F0A308C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B9B611-AB18-4258-8F83-E8FE325D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2F475C-797C-4A3E-B811-FF0EDE9E3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48FE4B-7C5C-47E3-8BDC-189495F7C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2B3EB2-A4C9-4542-9443-FBB21C3F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FDF545-7A44-46F7-9711-84A9CEDF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B99A82-C7E4-4155-9929-FC0B889FB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C40C97-FAB5-4E5A-A8C5-DBAE7E9D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C52F34-C48D-4380-8EA9-4BF2276B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151-ADC5-49C0-99D1-51837997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63FC91-C142-4408-AC4D-B089FCDA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E12643-420B-4DCD-BDB9-E19A5695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12631A-6770-415A-97BD-21CCC1AB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CF3930-346A-4DA3-A217-24222B332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4B206-4CC5-4A12-A752-4B169A78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3595A-BD63-4AF0-AEAC-0440FECED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B4629D-7AE6-4A83-A3BE-2447602CD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EAF4B0-A438-4A49-85FB-809462175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841B5D-7EBF-4814-A709-E33E8FAEC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F5D5EB-CE7F-420B-B96F-92B4AFD7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EDB7-7124-4B50-8E4C-B1A305A7B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D9F02-56C1-4C63-81FD-CDC8BEACD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7FA94-127D-4B53-9560-7B95DF9D6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04DF2D-5326-4D49-9720-A43959AF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5224174-3636-482D-8E45-33270720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F1DEBB-161D-4B23-A599-7CF89504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9AF164-ED2C-4B1C-BA34-91F025C2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126CD-C39C-4597-97DC-643F862CD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9C1B7A-A42B-4DD0-B6DC-04F7FC58A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AEB348-C159-48AD-BEE0-DC7A5145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FACAC4-BB74-44ED-B272-AD8AEDC06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3AF8-209B-43AF-BFF3-DBDAC776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1B0EFF-63A8-4EB6-85AC-EAEC0FD4B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145B9E-7864-41DD-9587-75C76934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E632A0-C2B3-4A4A-9BC5-19EA7D74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CF7D15-2434-48B4-8280-8F4122F1D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3F587-C7A1-4AC1-B6BD-29E0D6157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0F3A4A-C952-482F-BE3D-39CE0F56C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02CF85-0CDD-45CB-A6B6-E20919500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F574FC-B236-4C30-8F0F-ACBD9BB7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8A4577-3DF4-4DFA-BCE4-05849D058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86D881-F4F2-43CF-AE17-15E77742A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39F7-1B27-4B2E-9804-90A9170C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58389F-3AA0-4534-8A7B-838F5E8C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5AC651-EA56-4065-A7EE-64080E3F9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6254F-986C-4B30-8B60-16EA4ADB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D8B792-3A3E-45EF-91DF-438D69AD4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8C5F00-8CB4-4A3D-BF9E-6D2626687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02102CF-47E5-4BCD-A078-56B2B737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919D89-766C-48F4-BC48-51D7DD66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D87C6E-05A5-4A42-9127-A8225620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A067ED-4BB7-4A08-99D8-D2D03B48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9F3A94-F05F-4AA6-865D-5629CEF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8603-F913-4853-84C0-31886D47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B00D5F-60B7-45ED-818B-119FCFE0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CB22E5-3A87-4C87-9212-42FB83AEA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343C10-1600-4AD5-866F-F23BD759D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79F-9121-4208-9BBF-C3E652C1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E30-8E61-4492-8CD2-A7BAA1C7D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5C35-5450-4ABA-9582-915D9DAA9F0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10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3C31C-7E8E-4E81-804E-7102D783D3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10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5AB1-F95E-4B91-864D-E031AE960C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0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5C8A-58B9-4524-9B39-ADF29C5E655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10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61F1-2581-4DE0-8327-4D5718EE18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10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E0DD-64B3-489C-BAA5-C44A1171CC2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Activity Pages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Not your teacher’s worksheet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62120" y="685800"/>
            <a:ext cx="27432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simply a place for children to record answer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be first and foremost about assessment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6" name="Picture 2" descr="http://2.bp.blogspot.com/-K7PSnuhkARI/TWCj5kEVqCI/AAAAAAAAAHk/Xn94hw9r4nE/s1600/Picture3.jpg"/>
          <p:cNvPicPr/>
          <p:nvPr/>
        </p:nvPicPr>
        <p:blipFill>
          <a:blip r:embed="rId1"/>
          <a:stretch/>
        </p:blipFill>
        <p:spPr>
          <a:xfrm>
            <a:off x="3733920" y="152280"/>
            <a:ext cx="490032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761760" y="685800"/>
            <a:ext cx="29718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replace interactions with real thing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ctivity pages are NOT meant to give representations that are themselves models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9" name="Picture 3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11984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61760" y="401760"/>
            <a:ext cx="327636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a source of new information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be where vocabulary is introduced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724280" y="380880"/>
            <a:ext cx="40514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6840" y="457200"/>
            <a:ext cx="251460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the activity.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NOT intended to replace teacher guidance.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5" name="Picture 4" descr="http://www.kidzone.ws/science/tornado/experiment-tornado.gif"/>
          <p:cNvPicPr/>
          <p:nvPr/>
        </p:nvPicPr>
        <p:blipFill>
          <a:blip r:embed="rId1"/>
          <a:stretch/>
        </p:blipFill>
        <p:spPr>
          <a:xfrm>
            <a:off x="3200400" y="152280"/>
            <a:ext cx="2666880" cy="355788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5" descr=""/>
          <p:cNvPicPr/>
          <p:nvPr/>
        </p:nvPicPr>
        <p:blipFill>
          <a:blip r:embed="rId2"/>
          <a:stretch/>
        </p:blipFill>
        <p:spPr>
          <a:xfrm>
            <a:off x="5943600" y="2514600"/>
            <a:ext cx="290052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609480" y="685800"/>
            <a:ext cx="243864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facilitate the use of science processes, such as observation and communication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  <a:p>
            <a:pPr marL="272880" indent="-255240">
              <a:lnSpc>
                <a:spcPct val="90000"/>
              </a:lnSpc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Palatino Linotype"/>
              </a:rPr>
              <a:t>An activity page IS intended to guide the flow of an activity.</a:t>
            </a:r>
            <a:endParaRPr b="0" lang="en-US" sz="1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3048120" y="304920"/>
            <a:ext cx="2935080" cy="39114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" descr=""/>
          <p:cNvPicPr/>
          <p:nvPr/>
        </p:nvPicPr>
        <p:blipFill>
          <a:blip r:embed="rId2"/>
          <a:stretch/>
        </p:blipFill>
        <p:spPr>
          <a:xfrm>
            <a:off x="6091200" y="2743200"/>
            <a:ext cx="285264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761760" y="685800"/>
            <a:ext cx="33526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An activity page IS intended to help students organize and process their ideas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3" name="Picture 4" descr="http://www.getworksheets.com/samples/worksheets/science/scigrqaph.gif"/>
          <p:cNvPicPr/>
          <p:nvPr/>
        </p:nvPicPr>
        <p:blipFill>
          <a:blip r:embed="rId1"/>
          <a:stretch/>
        </p:blipFill>
        <p:spPr>
          <a:xfrm>
            <a:off x="5668920" y="228600"/>
            <a:ext cx="3122640" cy="38098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"/>
          <p:cNvPicPr/>
          <p:nvPr/>
        </p:nvPicPr>
        <p:blipFill>
          <a:blip r:embed="rId2"/>
          <a:stretch/>
        </p:blipFill>
        <p:spPr>
          <a:xfrm>
            <a:off x="1805040" y="3581280"/>
            <a:ext cx="29001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Picture 2" descr="Kindergarten Earth Science Worksheet Printable"/>
          <p:cNvPicPr/>
          <p:nvPr/>
        </p:nvPicPr>
        <p:blipFill>
          <a:blip r:embed="rId1"/>
          <a:stretch/>
        </p:blipFill>
        <p:spPr>
          <a:xfrm>
            <a:off x="658800" y="476280"/>
            <a:ext cx="4003560" cy="51814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Kindergarten Five Senses Worksheet for Kids Printable"/>
          <p:cNvPicPr/>
          <p:nvPr/>
        </p:nvPicPr>
        <p:blipFill>
          <a:blip r:embed="rId2"/>
          <a:stretch/>
        </p:blipFill>
        <p:spPr>
          <a:xfrm>
            <a:off x="4800600" y="228600"/>
            <a:ext cx="3651120" cy="472428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"/>
          <p:cNvPicPr/>
          <p:nvPr/>
        </p:nvPicPr>
        <p:blipFill>
          <a:blip r:embed="rId3"/>
          <a:stretch/>
        </p:blipFill>
        <p:spPr>
          <a:xfrm>
            <a:off x="4849920" y="228600"/>
            <a:ext cx="36018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5T14:03:23Z</dcterms:created>
  <dc:creator>Information  Technology</dc:creator>
  <dc:description/>
  <dc:language>en-US</dc:language>
  <cp:lastModifiedBy>Information  Technology</cp:lastModifiedBy>
  <dcterms:modified xsi:type="dcterms:W3CDTF">2013-09-05T14:50:12Z</dcterms:modified>
  <cp:revision>1</cp:revision>
  <dc:subject/>
  <dc:title>Activity Pages</dc:title>
</cp:coreProperties>
</file>