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3D78-7EAD-4C6E-BB17-B3F2E84F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664B-A064-4412-BBFC-9DFE188E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24D4-11DA-4968-B51D-0DBCFD3A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B990-B857-4366-B966-03C2BE6E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91B09-CE39-47F7-B4E9-4DE41EA0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7C4E9-69A5-4B99-B880-066F74CB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45DEF-0B6A-4A19-A1B3-49077C21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448D8-1248-4447-8B44-0BD205D7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E535F-1711-4CE8-BCDB-4D11FE26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E1461-6DEB-4119-B9E7-1A2B8B45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8A552-0DFD-4202-ABAC-B9938473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425-DD29-41E7-A1F7-85C7015E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4FBD8-B4AC-4051-820A-AEC06CA3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CB500-C395-46F5-BFFE-57113BF9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CEEE9-282B-4AC1-B8C2-C59B63D4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3E0A4-CFE8-471D-9FCF-E42F90A8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06A59-3A17-4640-8A45-EE525E5B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F3708A-A146-4456-9D35-BF68CC10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C2046-6AF3-4C06-A6C9-644EE28A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B2AEC-9A0B-4B8E-A026-2A58F159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76A7B-B7E2-42B7-A567-DAABD123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01491-B35D-4427-92A9-F7E7A88D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EC8-42FB-4001-AF9E-AAD43E59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C4850C-3DD9-4CAD-AEF8-8DE769FA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A94A1-2B80-4A28-A69E-4AC5828F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278F2-9F37-4103-A06C-91797F60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ED20A-1253-4328-BF8F-0FCC22FF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B2C56-5F4C-4564-A796-5C16BE4F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5BA11-510C-48D0-826A-BB9707CE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62034-7585-42E1-BBD2-8DF1A5C6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5E92F4-28B5-4D19-AE93-2090027D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737876-052D-4E0C-9639-21F4AEFC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26F990-895D-4EE9-A77B-4E6960E1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D0A-0028-41B5-B501-B63B1FC4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2C81F6-4BC2-4721-B278-429D1FC0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ACC5A0-8FDA-4DAA-B973-EE7F2494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C99A07-C185-405A-9EB4-2868575D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7D4966-F43E-4276-BB08-C72FC82A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D2CDAB-B766-423F-A44D-4E8FD2FB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BFCB06-CBB0-4A66-9898-7039FD84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F0ED10-C808-4EAB-BEEC-15442ABA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B960FF-8F95-4A41-99A8-5EBAAEF7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FA2ACB-C239-44AF-B130-A1687FE9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0194F0-BC43-43AB-8200-DFBB506A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FDA-59EB-4C26-A77D-7AF304D2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E9F32E-54AA-4FD8-AFFA-D0DAFB3A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A6F1D3-A067-4385-922B-666EFA2E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0FAA9F-E64E-420A-BD56-17E3864C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5831A1-A6D0-48D1-B762-39400067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DCED50-68BA-419F-A975-1672C3FD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DF2032-1EF2-4607-A880-C068D550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3EA105-76B0-49D0-85AD-D3D412D6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CBAECF-DE51-4968-932C-57161DBC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FAB85-1886-4309-9822-60B5FE0B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D94072-67A2-4CF5-8E90-1DD3ED1E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B7BC-2ADC-4AF4-BAF9-4388C2BD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743EE5-44CB-42DE-A40C-A909A895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64F23D-FEE4-4EA7-943B-7E184F08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BC50FB-8A65-489E-B9A4-1C0F1C89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C882C8-4A5F-489C-B047-0EAAE54E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5301F8-71C9-446A-B97E-F26CC38D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150FA0-5371-47D6-A89F-F0240078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CAC336-0EA9-4AF5-9D0C-10689A63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3857C-01B4-4325-B6D1-AE06E477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FF6996-CF7B-48A0-A231-12D76DA0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003C0F-04AC-4377-81E0-4E2A1EE6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99C1-A2B2-49F1-ACF3-9B0DC2E0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996B2E-EDE3-4336-A276-14AFD257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56B0CE-650B-4D02-B6EE-D14B7122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2B1386-07ED-4FF7-A13E-27BE34F9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31E-7661-4FF8-B26C-5621AF00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44F-01B3-4815-B9E2-BCE98C6B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7DF0-B292-4534-9AB3-EBF40542502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C8D7-4A53-4DA3-85AD-6B0F18747AA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00DA-B693-430B-B284-BA2FF4414B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135B-1948-4B55-B44F-BEB215BE455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3986-B29E-4CEE-8121-0BD992DA3A7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58A4-64B0-4B67-BCA9-827E7A1F1A4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7600" y="1218960"/>
            <a:ext cx="7543800" cy="21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Activity Pages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133360" y="33746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Not your teacher’s worksheet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62120" y="685800"/>
            <a:ext cx="27432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be simply a place for children to record answer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be first and foremost about assessment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6" name="Picture 2" descr="http://2.bp.blogspot.com/-K7PSnuhkARI/TWCj5kEVqCI/AAAAAAAAAHk/Xn94hw9r4nE/s1600/Picture3.jpg"/>
          <p:cNvPicPr/>
          <p:nvPr/>
        </p:nvPicPr>
        <p:blipFill>
          <a:blip r:embed="rId1"/>
          <a:stretch/>
        </p:blipFill>
        <p:spPr>
          <a:xfrm>
            <a:off x="3733920" y="152280"/>
            <a:ext cx="490032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61760" y="685800"/>
            <a:ext cx="29718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replace interactions with real thing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give representations that are themselves model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1198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61760" y="401760"/>
            <a:ext cx="327636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be a source of new information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be where vocabulary is introduced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05144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6840" y="457200"/>
            <a:ext cx="2514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intended to guide the flow of the activity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replace teacher guidance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5" name="Picture 4" descr="http://www.kidzone.ws/science/tornado/experiment-tornado.gif"/>
          <p:cNvPicPr/>
          <p:nvPr/>
        </p:nvPicPr>
        <p:blipFill>
          <a:blip r:embed="rId1"/>
          <a:stretch/>
        </p:blipFill>
        <p:spPr>
          <a:xfrm>
            <a:off x="3200400" y="152280"/>
            <a:ext cx="2666880" cy="3557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2"/>
          <a:stretch/>
        </p:blipFill>
        <p:spPr>
          <a:xfrm>
            <a:off x="5943600" y="2514600"/>
            <a:ext cx="29005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09480" y="685800"/>
            <a:ext cx="243864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Palatino Linotype"/>
              </a:rPr>
              <a:t>An activity page IS intended to facilitate the use of science processes, such as observation and communication.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Palatino Linotype"/>
              </a:rPr>
              <a:t>An activity page IS intended to guide the flow of an activity.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935080" cy="3911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2"/>
          <a:stretch/>
        </p:blipFill>
        <p:spPr>
          <a:xfrm>
            <a:off x="6091200" y="2743200"/>
            <a:ext cx="28526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761760" y="685800"/>
            <a:ext cx="33526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intended to help students organize and process their idea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3" name="Picture 4" descr="http://www.getworksheets.com/samples/worksheets/science/scigrqaph.gif"/>
          <p:cNvPicPr/>
          <p:nvPr/>
        </p:nvPicPr>
        <p:blipFill>
          <a:blip r:embed="rId1"/>
          <a:stretch/>
        </p:blipFill>
        <p:spPr>
          <a:xfrm>
            <a:off x="5668920" y="228600"/>
            <a:ext cx="3122640" cy="3809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"/>
          <p:cNvPicPr/>
          <p:nvPr/>
        </p:nvPicPr>
        <p:blipFill>
          <a:blip r:embed="rId2"/>
          <a:stretch/>
        </p:blipFill>
        <p:spPr>
          <a:xfrm>
            <a:off x="1805040" y="3581280"/>
            <a:ext cx="29001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7" name="Picture 2" descr="Kindergarten Earth Science Worksheet Printable"/>
          <p:cNvPicPr/>
          <p:nvPr/>
        </p:nvPicPr>
        <p:blipFill>
          <a:blip r:embed="rId1"/>
          <a:stretch/>
        </p:blipFill>
        <p:spPr>
          <a:xfrm>
            <a:off x="658800" y="476280"/>
            <a:ext cx="4003560" cy="5181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Kindergarten Five Senses Worksheet for Kids Printable"/>
          <p:cNvPicPr/>
          <p:nvPr/>
        </p:nvPicPr>
        <p:blipFill>
          <a:blip r:embed="rId2"/>
          <a:stretch/>
        </p:blipFill>
        <p:spPr>
          <a:xfrm>
            <a:off x="4800600" y="228600"/>
            <a:ext cx="3651120" cy="4724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3"/>
          <a:stretch/>
        </p:blipFill>
        <p:spPr>
          <a:xfrm>
            <a:off x="4849920" y="228600"/>
            <a:ext cx="3601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4:03:23Z</dcterms:created>
  <dc:creator>Information  Technology</dc:creator>
  <dc:description/>
  <dc:language>en-US</dc:language>
  <cp:lastModifiedBy>Information  Technology</cp:lastModifiedBy>
  <dcterms:modified xsi:type="dcterms:W3CDTF">2013-09-05T14:50:12Z</dcterms:modified>
  <cp:revision>1</cp:revision>
  <dc:subject/>
  <dc:title>Activity Pages</dc:title>
</cp:coreProperties>
</file>