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B9D-13AC-4C0E-ADBA-F5D839502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DF6-106E-4E00-97B0-56A861612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AA7D-EDF5-4AB0-9A75-946A8AE3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AB9A-6499-4136-8749-4254B367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0304-3D73-4F54-AF36-F11BAF225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82B4-7B5C-4DEA-8ADE-96A6986BC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34C9-8C67-498D-9217-C3C0F862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3F2E-DC76-4A9E-9539-EC38B1233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5F01-77B7-4A52-BE4E-8CAF34E20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C722-9135-419C-9503-6F14A3EB6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AE7-D9DA-4A88-80E5-31B8856F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EC98-8F63-4B53-8F6A-F7212DA3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28074-4231-414C-9C50-FF9854A83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masci.com/miscon/opphys.html" TargetMode="External"/><Relationship Id="rId2" Type="http://schemas.openxmlformats.org/officeDocument/2006/relationships/hyperlink" Target="http://www.newyorkscienceteacher.com/sci/pages/miscon/index.php" TargetMode="External"/><Relationship Id="rId3" Type="http://schemas.openxmlformats.org/officeDocument/2006/relationships/hyperlink" Target="http://www.amasci.com/miscon/miscon4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nimated Thought Experiment About 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re alive. Plants are not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ers and trees are plants. Weeds &amp; grass are not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take in everything they need through thei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is helpful, but not cr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grow in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grow up to get to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lorophyll is the only substance in a plant that is required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----------------------------------------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 amounts of water are needed to keep the stomata open so carbon dioxide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ingle arrow implies one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---------------------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(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8954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 &amp;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3048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lasts, light, min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are photosynthetic (a few are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live on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nvolves 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s done by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ole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tropism” vs. “Gravitotrop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l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respiration in plants only occurs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ry is a 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ot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e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nuts” are a type of n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ination is the same as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“food” is like our “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rame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st vivid/active thing in the field of observation is responsible for the result. This is often associated with a sort of voli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yes pull in light from what they se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rs seek out sou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nts can sense light far awa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lames try to draw oxygen up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un moves around the Eart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a balloon pops it is because the air wants to get o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Expla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natural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entary L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ns—associating patterns of unrelated events as having a causal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cky pe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n mi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 under a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orrect teach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mpts to simplify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’s misunderstanding of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ïve Concep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.k.a. Misconception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have naïve conceptions for many rea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sinterpretations of expe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gative transfer to new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orrect and/or incomplete tea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usually it is a mix of these reas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have naïve conceptions in most if not all areas of science you will be teac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ing naïve conceptions is NOT a result of being stupid. In fact, they probably result from someone actively working to make sense of the wor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ïve conceptions should be considered when planning les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conceptions are persis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more a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's Misconceptions about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masci.com/miscon/opphy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York Scienc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wyorkscienceteacher.com/sci/pages/misco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rors in Science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masci.com/miscon/miscon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656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agine that you have on “magical molecule” glass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aw the air molecules as you’d see them in the test tube with the glass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656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the plunger is pulled out of the syringe, we’ll assume that half of the air goes out of the test tub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Group 19" descr=""/>
          <p:cNvPicPr/>
          <p:nvPr/>
        </p:nvPicPr>
        <p:blipFill>
          <a:blip r:embed="rId1"/>
          <a:stretch/>
        </p:blipFill>
        <p:spPr>
          <a:xfrm>
            <a:off x="22557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9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20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TextBox 21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22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Title 1"/>
          <p:cNvSpPr/>
          <p:nvPr/>
        </p:nvSpPr>
        <p:spPr>
          <a:xfrm flipV="1" rot="10800000">
            <a:off x="388584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e air in the test tube as you would see it now through the glass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-0.00157 -0.16666 E">
                                      <p:cBhvr>
                                        <p:cTn id="1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5"/>
          <p:cNvSpPr/>
          <p:nvPr/>
        </p:nvSpPr>
        <p:spPr>
          <a:xfrm>
            <a:off x="7238880" y="32767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6"/>
          <p:cNvSpPr/>
          <p:nvPr/>
        </p:nvSpPr>
        <p:spPr>
          <a:xfrm>
            <a:off x="784872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7"/>
          <p:cNvSpPr/>
          <p:nvPr/>
        </p:nvSpPr>
        <p:spPr>
          <a:xfrm>
            <a:off x="7772400" y="22860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8"/>
          <p:cNvSpPr/>
          <p:nvPr/>
        </p:nvSpPr>
        <p:spPr>
          <a:xfrm>
            <a:off x="7696080" y="5867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9"/>
          <p:cNvSpPr/>
          <p:nvPr/>
        </p:nvSpPr>
        <p:spPr>
          <a:xfrm>
            <a:off x="7315200" y="48006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0"/>
          <p:cNvSpPr/>
          <p:nvPr/>
        </p:nvSpPr>
        <p:spPr>
          <a:xfrm>
            <a:off x="7086600" y="31240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1"/>
          <p:cNvSpPr/>
          <p:nvPr/>
        </p:nvSpPr>
        <p:spPr>
          <a:xfrm>
            <a:off x="7543800" y="22860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2"/>
          <p:cNvSpPr/>
          <p:nvPr/>
        </p:nvSpPr>
        <p:spPr>
          <a:xfrm>
            <a:off x="7772400" y="3048120"/>
            <a:ext cx="304920" cy="30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3"/>
          <p:cNvSpPr/>
          <p:nvPr/>
        </p:nvSpPr>
        <p:spPr>
          <a:xfrm>
            <a:off x="7238880" y="35812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4"/>
          <p:cNvSpPr/>
          <p:nvPr/>
        </p:nvSpPr>
        <p:spPr>
          <a:xfrm>
            <a:off x="7086600" y="41148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5"/>
          <p:cNvSpPr/>
          <p:nvPr/>
        </p:nvSpPr>
        <p:spPr>
          <a:xfrm>
            <a:off x="7620120" y="3352680"/>
            <a:ext cx="30456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6"/>
          <p:cNvSpPr/>
          <p:nvPr/>
        </p:nvSpPr>
        <p:spPr>
          <a:xfrm>
            <a:off x="7467480" y="60958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7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8"/>
          <p:cNvSpPr/>
          <p:nvPr/>
        </p:nvSpPr>
        <p:spPr>
          <a:xfrm>
            <a:off x="7467480" y="47242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9"/>
          <p:cNvSpPr/>
          <p:nvPr/>
        </p:nvSpPr>
        <p:spPr>
          <a:xfrm>
            <a:off x="7772400" y="51814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7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8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0"/>
          <p:cNvSpPr/>
          <p:nvPr/>
        </p:nvSpPr>
        <p:spPr>
          <a:xfrm>
            <a:off x="7086600" y="3352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1"/>
          <p:cNvSpPr/>
          <p:nvPr/>
        </p:nvSpPr>
        <p:spPr>
          <a:xfrm>
            <a:off x="7543800" y="25146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2"/>
          <p:cNvSpPr/>
          <p:nvPr/>
        </p:nvSpPr>
        <p:spPr>
          <a:xfrm>
            <a:off x="7772400" y="3276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3"/>
          <p:cNvSpPr/>
          <p:nvPr/>
        </p:nvSpPr>
        <p:spPr>
          <a:xfrm>
            <a:off x="7238880" y="38098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4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5"/>
          <p:cNvSpPr/>
          <p:nvPr/>
        </p:nvSpPr>
        <p:spPr>
          <a:xfrm>
            <a:off x="7620120" y="358128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6"/>
          <p:cNvSpPr/>
          <p:nvPr/>
        </p:nvSpPr>
        <p:spPr>
          <a:xfrm>
            <a:off x="7467480" y="63244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67"/>
          <p:cNvSpPr/>
          <p:nvPr/>
        </p:nvSpPr>
        <p:spPr>
          <a:xfrm>
            <a:off x="7696080" y="43434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68"/>
          <p:cNvSpPr/>
          <p:nvPr/>
        </p:nvSpPr>
        <p:spPr>
          <a:xfrm>
            <a:off x="7467480" y="49528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9"/>
          <p:cNvSpPr/>
          <p:nvPr/>
        </p:nvSpPr>
        <p:spPr>
          <a:xfrm>
            <a:off x="7772400" y="54100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3886200" y="18288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4572000" y="50292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4648320" y="182880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6"/>
          <p:cNvSpPr/>
          <p:nvPr/>
        </p:nvSpPr>
        <p:spPr>
          <a:xfrm>
            <a:off x="4572000" y="25909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7"/>
          <p:cNvSpPr/>
          <p:nvPr/>
        </p:nvSpPr>
        <p:spPr>
          <a:xfrm>
            <a:off x="4267080" y="5791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8"/>
          <p:cNvSpPr/>
          <p:nvPr/>
        </p:nvSpPr>
        <p:spPr>
          <a:xfrm>
            <a:off x="4191120" y="426708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4572000" y="3505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0"/>
          <p:cNvSpPr/>
          <p:nvPr/>
        </p:nvSpPr>
        <p:spPr>
          <a:xfrm>
            <a:off x="3962520" y="335268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1"/>
          <p:cNvSpPr/>
          <p:nvPr/>
        </p:nvSpPr>
        <p:spPr>
          <a:xfrm>
            <a:off x="3886200" y="50292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2"/>
          <p:cNvSpPr/>
          <p:nvPr/>
        </p:nvSpPr>
        <p:spPr>
          <a:xfrm>
            <a:off x="4038480" y="25909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4"/>
          <p:cNvSpPr/>
          <p:nvPr/>
        </p:nvSpPr>
        <p:spPr>
          <a:xfrm>
            <a:off x="7696080" y="54100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7"/>
          <p:cNvSpPr/>
          <p:nvPr/>
        </p:nvSpPr>
        <p:spPr>
          <a:xfrm>
            <a:off x="7086600" y="54100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8"/>
          <p:cNvSpPr/>
          <p:nvPr/>
        </p:nvSpPr>
        <p:spPr>
          <a:xfrm>
            <a:off x="7010280" y="41148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9"/>
          <p:cNvSpPr/>
          <p:nvPr/>
        </p:nvSpPr>
        <p:spPr>
          <a:xfrm>
            <a:off x="7772400" y="38098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1"/>
          <p:cNvSpPr/>
          <p:nvPr/>
        </p:nvSpPr>
        <p:spPr>
          <a:xfrm>
            <a:off x="7543800" y="4648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Prem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come to science instruciton with ideas about most phenomena with which they have any experienc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y of these ideas are wrong when compared to standard science understandings—naïve conceptions, misconcep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is presents a potential paradox—we can only hope to teach children about things with which they have experience, but much of that experience leads them to misunderstand the phenomen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soning directly from experience without differentiating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know that a chick comes from an egg, so a seed must be about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 get nearer to a flame, I feel more heat. Summer is hotter than winter, so Earth must be closer to the sun th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20:08Z</dcterms:created>
  <dc:creator>Information Technology</dc:creator>
  <dc:description/>
  <dc:language>en-US</dc:language>
  <cp:lastModifiedBy>Information Technology</cp:lastModifiedBy>
  <dcterms:modified xsi:type="dcterms:W3CDTF">2010-03-09T21:40:20Z</dcterms:modified>
  <cp:revision>35</cp:revision>
  <dc:subject/>
  <dc:title>Slide 1</dc:title>
</cp:coreProperties>
</file>