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96AC-6303-4868-BEAA-6AACEE86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F7B-C295-4095-9D69-479EB9F1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A43-11D3-448A-ABDF-2BE2A215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7C5-0005-4A17-83AC-33B453D5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E733-0049-4571-A663-BF6FF511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6A6-AE69-4E04-95AC-07424FE7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39E8-7867-4332-8BBB-7BD5BB71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4621-D2D0-4C3C-8885-3A0E37B2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D0A3-D4BA-4DC4-9264-98DF2FCD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75A-9E1D-4FA6-81DE-AFBCC85A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12EF-5018-4778-91F6-C4D5B1CB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490-8D6E-44B2-A1BA-35FC3567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1D51-2085-4AA3-AED6-2ECFF4294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ildren’s Misconceptions in 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Expla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natural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mentary L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stitions—associating patterns of unrelated events as having a causal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cky pe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ken mi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ing under a 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more a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ldren's Misconceptions about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masci.com/miscon/opphy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York Science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newyorkscienceteacher.com/sci/pages/miscon/index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rors in Science Text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masci.com/miscon/miscon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Prem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ildren come to science teaching with ideas about most phenomena with which they have any experience. Many of these ideas are wrong when compared to standard science understanding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presents a potential paradox—we can only hope to teach children about things with which they have experience, but much of that experience leads them to misunderstand the phenome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soning directly from experience without differentiating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 know that a chick comes from an egg, so a seed must be about the s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I get nearer to a flame, I feel more heat. Summer is hotter than winter, so Earth must be closer to the sun th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orrect teac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ttempts to simplify mate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acher’s misunderstanding of mate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are alive. Plants are not a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ers and trees are plants. Weeds &amp; grass are not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take in everything they need through thei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light is helpful, but not cri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grow in s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ots grow up to get to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lorophyll is the only substance in a plant that is required for photosynthe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----------------------------------------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rge amounts of water are needed to keep the stomata open so carbon dioxide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ingle arrow implies one ste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---------------------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(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895480" y="297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light &amp; 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048120" y="6019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loroplasts, light, min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gener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are photosynthetic (a few aren’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live on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nvolves flo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s done by b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olete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tropism” vs. “Gravitotropis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elopat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respiration in plants only occurs at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ery is a 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ot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e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 nuts” are a type of n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ination is the same as fert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“food” is like our “fo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Frame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vivid/active thing in the field of observation is responsible for the result. This is often associated with a sort of vol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yes pull in light from what they s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s seek out s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s can sense light far a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ames try to draw oxygen up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n moves around the Ear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balloon pops it is because the air wants to get 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5:39:47Z</dcterms:created>
  <dc:creator>Edward Robeck</dc:creator>
  <dc:description/>
  <dc:language>en-US</dc:language>
  <cp:lastModifiedBy>Information Technology</cp:lastModifiedBy>
  <dcterms:modified xsi:type="dcterms:W3CDTF">2009-11-01T18:43:09Z</dcterms:modified>
  <cp:revision>53</cp:revision>
  <dc:subject/>
  <dc:title>Children’s Misconceptions in Science</dc:title>
</cp:coreProperties>
</file>