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DCBC-EE12-4398-99C9-D734A87F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63CA-741D-473E-AE0C-9165C40B1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2298-DE62-4381-BE32-6505E69B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443-ACE2-42E5-B307-5A272FE31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3F5D-D68E-4FCB-BB8E-790B3F33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A167-6302-4F38-9714-FC44B38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712E-13CF-4878-9D22-41B4BA8F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E551-4B51-4C9A-912F-4E1010C80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EAAB-9158-4393-B533-E021C6DA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A34-153D-4B4C-B81E-05CC98FA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DB2E-2CA9-4B8B-AD03-7EF6072C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A479-F020-4E4D-904B-3CC9DCAF8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BEBCE-CEA4-42AF-9BA4-1E7E08CF11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ildren’s Misconceptions in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Explan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natural cau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h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ns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mentary Lu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erstitions—associating patterns of unrelated events as having a causal relationshi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ucky pen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oken mirr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lking under a lad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d more a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hildren's Misconceptions about Sci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opphys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ew York Science Tea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newyorkscienceteacher.com/sci/pages/miscon/index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rrors in Science Textboo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amasci.com/miscon/miscon4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rst Premi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ildren come to science teaching with ideas about most phenomena with which they have any experience. Many of these ideas are wrong when compared to standard science understanding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s presents a potential paradox—we can only hope to teach children about things with which they have experience, but much of that experience leads them to misunderstand the phenomena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soning directly from experience without differentiating condi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 know that a chick comes from an egg, so a seed must be about the sam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hen I get nearer to a flame, I feel more heat. Summer is hotter than winter, so Earth must be closer to the sun the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orrect teach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ttempts to simplify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eacher’s misunderstanding of mater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imals are alive. Plants are not al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owers and trees are plants. Weeds &amp; grass are not pla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s take in everything they need through thei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nlight is helpful, but not critic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grow in soi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oots grow up to get to l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simpl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lorophyll is the only substance in a plant that is required for photosynthesi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-----------------------------------------</a:t>
            </a:r>
            <a:r>
              <a:rPr b="0" lang="en-US" sz="19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C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arge amounts of water are needed to keep the stomata open so carbon dioxide is availabl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ingle arrow implies one ste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C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6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 ---------------------</a:t>
            </a:r>
            <a:r>
              <a:rPr b="0" lang="en-U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6 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+ (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)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895480" y="29718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nlight &amp; chlor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3048120" y="601992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loroplasts, light, min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gener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are photosynthetic (a few aren’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lants live on l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nvolves flow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pollination is done by be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solete Ide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otropism” vs. “Gravitotropism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elopat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lular respiration in plants only occurs at n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dent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elery is a 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rrot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tatoes are just like other roo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ne nuts” are a type of n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llination is the same as fertil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ant “food” is like our “food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ternative Framewor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most vivid/active thing in the field of observation is responsible for the result. This is often associated with a sort of voli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yes pull in light from what they se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rs seek out soun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lants can sense light far aw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lames try to draw oxygen up.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un moves around the Earth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 balloon pops it is because the air wants to get 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15:39:47Z</dcterms:created>
  <dc:creator>Edward Robeck</dc:creator>
  <dc:description/>
  <dc:language>en-US</dc:language>
  <cp:lastModifiedBy>Information Technology</cp:lastModifiedBy>
  <dcterms:modified xsi:type="dcterms:W3CDTF">2009-11-01T18:43:09Z</dcterms:modified>
  <cp:revision>53</cp:revision>
  <dc:subject/>
  <dc:title>Children’s Misconceptions in Science</dc:title>
</cp:coreProperties>
</file>