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2083-F2D7-4060-8730-9CD9A444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B038-7BE8-4067-92A8-E56D087CD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C21-5F43-4F67-BE28-F89141DB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6255-72EC-4F7E-8333-9366ACE1A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A9E6-C4F7-40F8-9DDF-6F99AB2A0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3E8-EB3E-4A45-893C-4548ACEE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4D3-61D3-49BD-9A42-94D3044D3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69E1-59D1-42E2-81DB-006A61B8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69A-EE3E-4981-A73C-DF8B111BE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1CB95-75F8-49F3-BA7F-295F702B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A448-34C8-4BB9-A53E-FACD02202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7A34-E9A9-43B6-898D-84F55068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1BFE-7532-4C6F-80FC-C403E3A42F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’s Misconceptions in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ildren come to science teaching with ideas about most phenomena with which they have any experience. Many of these ideas are wrong when compared to standard science understa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9:47Z</dcterms:created>
  <dc:creator>Edward Robeck</dc:creator>
  <dc:description/>
  <dc:language>en-US</dc:language>
  <cp:lastModifiedBy>Information Technology</cp:lastModifiedBy>
  <dcterms:modified xsi:type="dcterms:W3CDTF">2009-11-01T18:43:09Z</dcterms:modified>
  <cp:revision>53</cp:revision>
  <dc:subject/>
  <dc:title>Children’s Misconceptions in Science</dc:title>
</cp:coreProperties>
</file>