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760-C591-4932-8C88-66B2A881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1EDE-E8ED-4385-A4E5-DFC145868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6CC-A2E7-4E52-806E-17CF2340A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01D1-2D58-4BF0-99C5-93B9E24F5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E1A7-3432-4778-95C5-ED09ED26A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B4C4-56B4-42DA-BDC8-1420BEA3A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AEEF-0F30-4BFA-8D81-C2B1E2C1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4422-38C0-4733-9D93-AE73D063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B41E-40D3-4520-B41E-073F967D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622A-2092-4465-96CA-7FC969D5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871D-C6D1-436D-9BCC-3D7B46B9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BE4-B57C-439F-A8C3-34DA279D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7C9E-B45C-43E4-B8EC-09D73D61F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ildren’s Misconceptions in 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Expla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natural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mentary Lu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stitions—associating patterns of unrelated events as having a causal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cky pe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ken mi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ing under a 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more a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ldren's Misconceptions about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masci.com/miscon/opphy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York Science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newyorkscienceteacher.com/sci/pages/miscon/index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rors in Science Text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masci.com/miscon/miscon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Prem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ildren come to science teaching with ideas about most phenomena with which they have any experience. Many of these ideas are wrong when compared to standard science understanding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presents a potential paradox—we can only hope to teach children about things with which they have experience, but much of that experience leads them to misunderstand the phenome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asoning directly from experience without differentiating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 know that a chick comes from an egg, so a seed must be about the s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I get nearer to a flame, I feel more heat. Summer is hotter than winter, so Earth must be closer to the sun th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orrect teac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ttempts to simplify mate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acher’s misunderstanding of mate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are alive. Plants are not a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ers and trees are plants. Weeds &amp; grass are not 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take in everything they need through thei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light is helpful, but not cri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grow in so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ots grow up to get to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lorophyll is the only substance in a plant that is required for photosynthe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----------------------------------------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C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rge amounts of water are needed to keep the stomata open so carbon dioxide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ingle arrow implies one ste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---------------------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(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895480" y="297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light &amp; 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048120" y="6019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loroplasts, light, min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gener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are photosynthetic (a few aren’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live on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nvolves flo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s done by b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olete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tropism” vs. “Gravitotropis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elopat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respiration in plants only occurs at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ery is a 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ot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e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 nuts” are a type of n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ination is the same as fert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“food” is like our “foo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Frame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vivid/active thing in the field of observation is responsible for the result. This is often associated with a sort of vol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yes pull in light from what they s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s seek out s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s can sense light far a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ames try to draw oxygen up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n moves around the Ear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balloon pops it is because the air wants to get 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5:39:47Z</dcterms:created>
  <dc:creator>Edward Robeck</dc:creator>
  <dc:description/>
  <dc:language>en-US</dc:language>
  <cp:lastModifiedBy>Information Technology</cp:lastModifiedBy>
  <dcterms:modified xsi:type="dcterms:W3CDTF">2009-11-01T18:43:09Z</dcterms:modified>
  <cp:revision>53</cp:revision>
  <dc:subject/>
  <dc:title>Children’s Misconceptions in Science</dc:title>
</cp:coreProperties>
</file>