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756-3F03-4046-BD2C-55338E60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4BC-BEDF-4250-9913-504B0002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084-B25D-489A-8BD4-8E117463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C3A-13BB-4B4C-946B-B7CFC351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34B-C4C8-4ECE-BD09-2F905888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992-2F8A-4819-B8B0-5C6C1131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23F-7EA2-4986-9BD5-1A5D1DE6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FBA-5D4E-4D7C-90A6-9702B015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935-8570-4D35-9408-E76D9215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C76-74C8-4371-8A7C-E3817856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225-A1A7-4481-89D6-AA617085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6D0-E337-4A8E-807E-8749CAE7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C1D5-33F7-4452-8FE4-C130BBAB3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’s Misconceptions in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ildren come to science teaching with ideas about most phenomena with which they have any experience. Many of these ideas are wrong when compared to standard science understan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9:47Z</dcterms:created>
  <dc:creator>Edward Robeck</dc:creator>
  <dc:description/>
  <dc:language>en-US</dc:language>
  <cp:lastModifiedBy>Information Technology</cp:lastModifiedBy>
  <dcterms:modified xsi:type="dcterms:W3CDTF">2009-11-01T18:43:09Z</dcterms:modified>
  <cp:revision>53</cp:revision>
  <dc:subject/>
  <dc:title>Children’s Misconceptions in Science</dc:title>
</cp:coreProperties>
</file>