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A4B8-2276-4418-910A-2393A1975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480A-30B1-4395-8344-F7063469F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9659-DB7C-4814-A558-6C81F6F87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07E0-D972-4124-B6C5-EB15A8362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F9A5-6D33-430A-A597-7CD000B85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BB716-9E2C-44EA-B76A-4F3B92F1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15EDA-4C13-46B7-8B07-E9951583A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D4F0-4306-46E0-8EA3-B3EE144A4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DD86-3B90-4FC4-A59D-CD6684D5C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4B60-146F-45D3-8C56-53878411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9878F-A481-4E76-81A2-48AC6DF1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471B-4BB7-4576-A33D-3C2DDA266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E3F0-1162-482E-9E8B-12F789A9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06608-CF3D-4C5D-94F9-12280902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E4C9-CB80-4CEC-8EDE-B48150B23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220B-D10E-4216-94BC-41163108B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D9845-3BC9-406C-A7EB-8287892BB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1CC5-812E-4EC0-ADEC-581F2E8B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866F-7EC9-4483-8965-01B1208C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8216-6948-4C84-BB94-CA3D46B1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6C6C-616F-40D9-9177-EE1D30F2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3A19-0123-43DB-957E-61DA58822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DD46-2C93-4982-A6D1-098FC822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1832-ADB5-4556-9E83-BE8941341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2B98D-0A9E-4E6E-895A-C8C1595B75E8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09E8-85C3-40D2-9205-38F63DA31D0E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aol.careerbuilder.com/jobs/keyword/lead+software+engineer/?siteid=cbaol95lst" TargetMode="External"/><Relationship Id="rId2" Type="http://schemas.openxmlformats.org/officeDocument/2006/relationships/hyperlink" Target="http://aol.careerbuilder.com/jobs/keyword/IT+Manager/?siteid=cbaol95lst" TargetMode="External"/><Relationship Id="rId3" Type="http://schemas.openxmlformats.org/officeDocument/2006/relationships/hyperlink" Target="http://aol.careerbuilder.com/jobs/keyword/product+marketing+manager/?siteid=cbaol95lst" TargetMode="External"/><Relationship Id="rId4" Type="http://schemas.openxmlformats.org/officeDocument/2006/relationships/hyperlink" Target="http://aol.careerbuilder.com/jobs/keyword/tax+manager/?siteid=cbaol95lst" TargetMode="External"/><Relationship Id="rId5" Type="http://schemas.openxmlformats.org/officeDocument/2006/relationships/hyperlink" Target="http://aol.careerbuilder.com/jobs/keyword/pharmacist/?siteid=cbaol95lst" TargetMode="External"/><Relationship Id="rId6" Type="http://schemas.openxmlformats.org/officeDocument/2006/relationships/hyperlink" Target="http://aol.careerbuilder.com/jobs/keyword/engineer+manager/?siteid=cbaol95lst" TargetMode="External"/><Relationship Id="rId7" Type="http://schemas.openxmlformats.org/officeDocument/2006/relationships/hyperlink" Target="http://aol.careerbuilder.com/jobs/keyword/sales+director/?siteid=cbaol95lst" TargetMode="External"/><Relationship Id="rId8" Type="http://schemas.openxmlformats.org/officeDocument/2006/relationships/hyperlink" Target="http://aol.careerbuilder.com/jobs/keyword/dentist/?siteid=cbaol95lst" TargetMode="External"/><Relationship Id="rId9" Type="http://schemas.openxmlformats.org/officeDocument/2006/relationships/hyperlink" Target="http://aol.careerbuilder.com/jobs/keyword/physician/?siteid=cbaol95lst" TargetMode="External"/><Relationship Id="rId10" Type="http://schemas.openxmlformats.org/officeDocument/2006/relationships/hyperlink" Target="http://aol.careerbuilder.com/jobs/keyword/psychiatrist/?siteid=cbaol95lst" TargetMode="External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areerinfonet.org/occ_rep.asp?next=occ_rep&amp;level=overall&amp;optstatus=110000000&amp;id=&amp;nodeid=2&amp;soccode=291061&amp;stfips=00&amp;jobfam=29" TargetMode="External"/><Relationship Id="rId2" Type="http://schemas.openxmlformats.org/officeDocument/2006/relationships/hyperlink" Target="http://www.careerinfonet.org/occ_rep.asp?next=occ_rep&amp;level=overall&amp;optstatus=110000000&amp;id=&amp;nodeid=2&amp;soccode=291064&amp;stfips=00&amp;jobfam=29" TargetMode="External"/><Relationship Id="rId3" Type="http://schemas.openxmlformats.org/officeDocument/2006/relationships/hyperlink" Target="http://www.careerinfonet.org/occ_rep.asp?next=occ_rep&amp;level=overall&amp;optstatus=110000000&amp;id=&amp;nodeid=2&amp;soccode=291022&amp;stfips=00&amp;jobfam=29" TargetMode="External"/><Relationship Id="rId4" Type="http://schemas.openxmlformats.org/officeDocument/2006/relationships/hyperlink" Target="http://www.careerinfonet.org/occ_rep.asp?next=occ_rep&amp;level=overall&amp;optstatus=110000000&amp;id=&amp;nodeid=2&amp;soccode=291023&amp;stfips=00&amp;jobfam=29" TargetMode="External"/><Relationship Id="rId5" Type="http://schemas.openxmlformats.org/officeDocument/2006/relationships/hyperlink" Target="http://www.careerinfonet.org/occ_rep.asp?next=occ_rep&amp;level=overall&amp;optstatus=110000000&amp;id=&amp;nodeid=2&amp;soccode=291069&amp;stfips=00&amp;jobfam=29" TargetMode="External"/><Relationship Id="rId6" Type="http://schemas.openxmlformats.org/officeDocument/2006/relationships/hyperlink" Target="http://www.careerinfonet.org/occ_rep.asp?next=occ_rep&amp;level=overall&amp;optstatus=110000000&amp;id=&amp;nodeid=2&amp;soccode=291067&amp;stfips=00&amp;jobfam=29" TargetMode="External"/><Relationship Id="rId7" Type="http://schemas.openxmlformats.org/officeDocument/2006/relationships/hyperlink" Target="http://www.careerinfonet.org/occ_rep.asp?next=occ_rep&amp;level=overall&amp;optstatus=110000000&amp;id=&amp;nodeid=2&amp;soccode=291063&amp;stfips=00&amp;jobfam=29" TargetMode="External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sk yourself..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ich of the materials we just used were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intende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to be used in science instruction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agnet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tatic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Refrac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oun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Fric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895480" y="6172200"/>
            <a:ext cx="4114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ttp://trac4la.files.wordpress.com/2013/01/bp_oil_spill_bird.png"/>
          <p:cNvPicPr/>
          <p:nvPr/>
        </p:nvPicPr>
        <p:blipFill>
          <a:blip r:embed="rId2"/>
          <a:stretch/>
        </p:blipFill>
        <p:spPr>
          <a:xfrm>
            <a:off x="1066680" y="990720"/>
            <a:ext cx="76406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762120" y="1143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There is beauty in everything, but        not everyone is capable of seeing it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Confuciu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762120" y="1143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There is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curriculum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in everything, but not everyone is capable of seeing it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990720" y="426708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a3d7a"/>
                </a:solidFill>
                <a:latin typeface="Times New Roman"/>
              </a:rPr>
              <a:t>Curriculum Potential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urriculum Potential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urriculum materials embody the intentions of the developers imperfectl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ore complex and comprehensive materials may yield a richer array of possible us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t may be possible to use rather limited and standard materials and to create exciting and motivating experienc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t is possible to use materials that were not intended for teaching in creative ways to support curriculum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urriculum Interpretation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eachers do not simply implement curriculum, they also interpret i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“reading” of curriculum potential depends not only on the inherent qualities of the materials, but also, to a large extent, on the teachers’ interpretive abilities and on their professional imagin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xplicit Curriculu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tended learning outcom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lso known as the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formal curriculum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r the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official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curriculum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(although those terms do have slightly different implications.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idden Curriculu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nintended learning outcom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lso know as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informal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or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implici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re is a sense in the idea of the “hidden curriculum” that students are learning things that are not stated, but that they are held accountable for in informal way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ased on what is considered “normal”, which brings in the concept of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hegemon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egemon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situation in which one state or way of being/knowing predominat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sually the hegemonic condition is an implicit part of a culture, going unstated and unrecognized because it is simply considered norm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egemony is usually promoted by the implicit messages presented in a cultu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o are scientist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8" name="Picture 2" descr="http://seedmagazine.com/stateofscience/img/stateofscience/draw-a-scientist2.jpg"/>
          <p:cNvPicPr/>
          <p:nvPr/>
        </p:nvPicPr>
        <p:blipFill>
          <a:blip r:embed="rId1"/>
          <a:stretch/>
        </p:blipFill>
        <p:spPr>
          <a:xfrm>
            <a:off x="1962000" y="2149560"/>
            <a:ext cx="598176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Null Curriculu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at is left out, either intentionally or unintentionally, from the curriculu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ecisions about what are included or not in a curriculum—what becomes the null curriculum—are always political, even when (especially when) they are unintentional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s this beautiful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Picture 6" descr="http://www.siteselection.com/ssinsider/special/images/sr110113a.jpg"/>
          <p:cNvPicPr/>
          <p:nvPr/>
        </p:nvPicPr>
        <p:blipFill>
          <a:blip r:embed="rId1"/>
          <a:stretch/>
        </p:blipFill>
        <p:spPr>
          <a:xfrm>
            <a:off x="1447920" y="2057400"/>
            <a:ext cx="6629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Do we include it?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ademy award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focus events of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Argo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ap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production – sex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BP oil spill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ntal health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olitic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ways social power is gained, given, taken, lost, denied, and us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nce “knowledge is power”, anything that contributes to or detracts from opportunities to learn is inherently politic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ecause curriculum construction affects opportunities to learn, it is a political ac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en In-Demand Jobs at 6 Figur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10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1"/>
              </a:rPr>
              <a:t>Lead Software Engineer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9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IT Manager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8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3"/>
              </a:rPr>
              <a:t>Product Marketing Manager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7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4"/>
              </a:rPr>
              <a:t>Tax Manager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6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5"/>
              </a:rPr>
              <a:t>Pharmacist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5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6"/>
              </a:rPr>
              <a:t>Engineering Manager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4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7"/>
              </a:rPr>
              <a:t>Sales Director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3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8"/>
              </a:rPr>
              <a:t>Dentist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2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9"/>
              </a:rPr>
              <a:t>Physician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1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10"/>
              </a:rPr>
              <a:t>Psychiatrist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ttp://jobs.aol.com/articles/2013/02/06/six-figure-jobs-in-demand/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ighest Paying Job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143000" y="2170080"/>
          <a:ext cx="7543800" cy="3849840"/>
        </p:xfrm>
        <a:graphic>
          <a:graphicData uri="http://schemas.openxmlformats.org/drawingml/2006/table">
            <a:tbl>
              <a:tblPr/>
              <a:tblGrid>
                <a:gridCol w="609480"/>
                <a:gridCol w="3505320"/>
                <a:gridCol w="1371600"/>
                <a:gridCol w="2057400"/>
              </a:tblGrid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1"/>
                        </a:rPr>
                        <a:t>Anesthesiologist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90.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7,2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2"/>
                        </a:rPr>
                        <a:t>Obstetricians and Gynecologist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90.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7,2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32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3"/>
                        </a:rPr>
                        <a:t>Oral and Maxillofacial Surgeon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90.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7,2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4"/>
                        </a:rPr>
                        <a:t>Orthodontist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90.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7,2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944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5"/>
                        </a:rPr>
                        <a:t>Physicians and Surgeons, All Oth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90.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7,2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6"/>
                        </a:rPr>
                        <a:t>Surgeon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90.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7,2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32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7"/>
                        </a:rPr>
                        <a:t>Internists, General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88.06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3,200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Psychiatrist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81.90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70,400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Family and General Practitioner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80.29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67,000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Chief Executive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80.25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66,900 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Box 5"/>
          <p:cNvSpPr/>
          <p:nvPr/>
        </p:nvSpPr>
        <p:spPr>
          <a:xfrm>
            <a:off x="1326240" y="6246720"/>
            <a:ext cx="33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U.S. Department of Labo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urriculum Potential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urriculum interpretation gives insight into different levels of the curriculum—the explicit, hidden, and null curricul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nce different levels of the curriculum are recognized, the teacher can set out to implement, enhance, or augment the curriculu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://www.washingtonpost.com/wp-srv/special/local/inauguration-2013/obama-inauguration-then-and-now/img/BEFORES-jefferson-memorial.jpg"/>
          <p:cNvPicPr/>
          <p:nvPr/>
        </p:nvPicPr>
        <p:blipFill>
          <a:blip r:embed="rId2"/>
          <a:stretch/>
        </p:blipFill>
        <p:spPr>
          <a:xfrm>
            <a:off x="1143000" y="1447920"/>
            <a:ext cx="7526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n ELED, is it OK to discuss..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eauty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oney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environment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unting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ligion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x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s this beautiful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2362320" y="5029200"/>
            <a:ext cx="53337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http://www.bloomberg.com/image/iOqzHPjCvpQM.jpg"/>
          <p:cNvPicPr/>
          <p:nvPr/>
        </p:nvPicPr>
        <p:blipFill>
          <a:blip r:embed="rId2"/>
          <a:stretch/>
        </p:blipFill>
        <p:spPr>
          <a:xfrm>
            <a:off x="1935000" y="2154240"/>
            <a:ext cx="579132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http://www.energyboom.com/sites/default/files/imagecache/nodeFull/bp-oil-spill_3.jpg"/>
          <p:cNvPicPr/>
          <p:nvPr/>
        </p:nvPicPr>
        <p:blipFill>
          <a:blip r:embed="rId2"/>
          <a:stretch/>
        </p:blipFill>
        <p:spPr>
          <a:xfrm>
            <a:off x="1036800" y="1143000"/>
            <a:ext cx="7650000" cy="51055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1036800" y="5867280"/>
            <a:ext cx="7650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0" name="Picture 5" descr="https://encrypted-tbn2.gstatic.com/images?q=tbn:ANd9GcTInN2_aGDO-lZDmK3zHhDTagFMHjo6E58fja2S4WHt9OQFTkXf"/>
          <p:cNvPicPr/>
          <p:nvPr/>
        </p:nvPicPr>
        <p:blipFill>
          <a:blip r:embed="rId1"/>
          <a:stretch/>
        </p:blipFill>
        <p:spPr>
          <a:xfrm>
            <a:off x="1143000" y="1066680"/>
            <a:ext cx="7558200" cy="5029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3" name="Picture 5" descr="http://l1.yimg.com/bt/api/res/1.2/sGyxpCN7ObwUJEyOqHN99Q--/YXBwaWQ9eW5ld3M7Y2g9MjQ0Njtjcj0xO2N3PTMyNjQ7ZHg9MDtkeT0wO2ZpPXVsY3JvcDtoPTQ3MztxPTg1O3c9NjMw/http:/l.yimg.com/os/152/2012/04/20/98606587-jpg_155417.jpg"/>
          <p:cNvPicPr/>
          <p:nvPr/>
        </p:nvPicPr>
        <p:blipFill>
          <a:blip r:embed="rId1"/>
          <a:stretch/>
        </p:blipFill>
        <p:spPr>
          <a:xfrm>
            <a:off x="1066680" y="1066680"/>
            <a:ext cx="7229520" cy="5410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https://encrypted-tbn2.gstatic.com/images?q=tbn:ANd9GcTsGnY8EKGywkBuh322LShYeHAZZSwAnVdLomqCopjaQsoqzrI1"/>
          <p:cNvPicPr/>
          <p:nvPr/>
        </p:nvPicPr>
        <p:blipFill>
          <a:blip r:embed="rId2"/>
          <a:stretch/>
        </p:blipFill>
        <p:spPr>
          <a:xfrm>
            <a:off x="1066680" y="1447920"/>
            <a:ext cx="76456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8T16:50:26Z</dcterms:created>
  <dc:creator>its</dc:creator>
  <dc:description/>
  <dc:language>en-US</dc:language>
  <cp:lastModifiedBy>Administrator</cp:lastModifiedBy>
  <dcterms:modified xsi:type="dcterms:W3CDTF">2013-02-25T18:47:11Z</dcterms:modified>
  <cp:revision>177</cp:revision>
  <dc:subject/>
  <dc:title>Curriculum Potential </dc:title>
</cp:coreProperties>
</file>