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6D9-DAC4-4C60-ADC3-D2522F09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84A-F250-4AA9-A760-E06A6DB6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1B47-3B07-4047-A8C0-59269D82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2FD-BA41-4D5E-AEFD-B18EDD2E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119F-5421-4E1B-A5FD-5F7782CD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6F7D-5C5D-4098-86EE-0156DBE1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2690-B631-4B5D-85A3-A4B5492B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8DBE-A325-4A62-9EE2-BF92FF55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AD71-7BEC-49DA-90A4-C766B6A1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D21E-4CB6-4DB9-B935-BCC92578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0097-C999-4B34-BEAC-26560531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B95-9FBE-4E7F-9765-A8308350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6887-F0AB-49A6-AAD1-0A0212B7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415E-9B6F-467D-B7D3-44DAB7FA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D20C-C4E4-4308-B0BF-76873994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DEA9-84E4-43F7-9380-C8374912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72F9-5FB7-4338-9BB0-27454D81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0D5-0E3E-484A-977A-3CDA72C8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7FC-FDEE-4CFC-B33E-F14109BF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4D9-1FB2-4CD0-937F-5FA23CFB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5BDE-5E6A-475A-97AC-76084A1A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FB7-859A-48B1-B95E-1EEBF59B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980-EC4F-4EB3-9CF4-4FE91001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31C-E915-4F4D-8496-E206F1C8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D754-FE18-434D-A467-C7AE1CB103E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B5A9-B770-47A7-ABCA-62A938D0624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ol.careerbuilder.com/jobs/keyword/lead+software+engineer/?siteid=cbaol95lst" TargetMode="External"/><Relationship Id="rId2" Type="http://schemas.openxmlformats.org/officeDocument/2006/relationships/hyperlink" Target="http://aol.careerbuilder.com/jobs/keyword/IT+Manager/?siteid=cbaol95lst" TargetMode="External"/><Relationship Id="rId3" Type="http://schemas.openxmlformats.org/officeDocument/2006/relationships/hyperlink" Target="http://aol.careerbuilder.com/jobs/keyword/product+marketing+manager/?siteid=cbaol95lst" TargetMode="External"/><Relationship Id="rId4" Type="http://schemas.openxmlformats.org/officeDocument/2006/relationships/hyperlink" Target="http://aol.careerbuilder.com/jobs/keyword/tax+manager/?siteid=cbaol95lst" TargetMode="External"/><Relationship Id="rId5" Type="http://schemas.openxmlformats.org/officeDocument/2006/relationships/hyperlink" Target="http://aol.careerbuilder.com/jobs/keyword/pharmacist/?siteid=cbaol95lst" TargetMode="External"/><Relationship Id="rId6" Type="http://schemas.openxmlformats.org/officeDocument/2006/relationships/hyperlink" Target="http://aol.careerbuilder.com/jobs/keyword/engineer+manager/?siteid=cbaol95lst" TargetMode="External"/><Relationship Id="rId7" Type="http://schemas.openxmlformats.org/officeDocument/2006/relationships/hyperlink" Target="http://aol.careerbuilder.com/jobs/keyword/sales+director/?siteid=cbaol95lst" TargetMode="External"/><Relationship Id="rId8" Type="http://schemas.openxmlformats.org/officeDocument/2006/relationships/hyperlink" Target="http://aol.careerbuilder.com/jobs/keyword/dentist/?siteid=cbaol95lst" TargetMode="External"/><Relationship Id="rId9" Type="http://schemas.openxmlformats.org/officeDocument/2006/relationships/hyperlink" Target="http://aol.careerbuilder.com/jobs/keyword/physician/?siteid=cbaol95lst" TargetMode="External"/><Relationship Id="rId10" Type="http://schemas.openxmlformats.org/officeDocument/2006/relationships/hyperlink" Target="http://aol.careerbuilder.com/jobs/keyword/psychiatrist/?siteid=cbaol95lst" TargetMode="External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areerinfonet.org/occ_rep.asp?next=occ_rep&amp;level=overall&amp;optstatus=110000000&amp;id=&amp;nodeid=2&amp;soccode=291061&amp;stfips=00&amp;jobfam=29" TargetMode="External"/><Relationship Id="rId2" Type="http://schemas.openxmlformats.org/officeDocument/2006/relationships/hyperlink" Target="http://www.careerinfonet.org/occ_rep.asp?next=occ_rep&amp;level=overall&amp;optstatus=110000000&amp;id=&amp;nodeid=2&amp;soccode=291064&amp;stfips=00&amp;jobfam=29" TargetMode="External"/><Relationship Id="rId3" Type="http://schemas.openxmlformats.org/officeDocument/2006/relationships/hyperlink" Target="http://www.careerinfonet.org/occ_rep.asp?next=occ_rep&amp;level=overall&amp;optstatus=110000000&amp;id=&amp;nodeid=2&amp;soccode=291022&amp;stfips=00&amp;jobfam=29" TargetMode="External"/><Relationship Id="rId4" Type="http://schemas.openxmlformats.org/officeDocument/2006/relationships/hyperlink" Target="http://www.careerinfonet.org/occ_rep.asp?next=occ_rep&amp;level=overall&amp;optstatus=110000000&amp;id=&amp;nodeid=2&amp;soccode=291023&amp;stfips=00&amp;jobfam=29" TargetMode="External"/><Relationship Id="rId5" Type="http://schemas.openxmlformats.org/officeDocument/2006/relationships/hyperlink" Target="http://www.careerinfonet.org/occ_rep.asp?next=occ_rep&amp;level=overall&amp;optstatus=110000000&amp;id=&amp;nodeid=2&amp;soccode=291069&amp;stfips=00&amp;jobfam=29" TargetMode="External"/><Relationship Id="rId6" Type="http://schemas.openxmlformats.org/officeDocument/2006/relationships/hyperlink" Target="http://www.careerinfonet.org/occ_rep.asp?next=occ_rep&amp;level=overall&amp;optstatus=110000000&amp;id=&amp;nodeid=2&amp;soccode=291067&amp;stfips=00&amp;jobfam=29" TargetMode="External"/><Relationship Id="rId7" Type="http://schemas.openxmlformats.org/officeDocument/2006/relationships/hyperlink" Target="http://www.careerinfonet.org/occ_rep.asp?next=occ_rep&amp;level=overall&amp;optstatus=110000000&amp;id=&amp;nodeid=2&amp;soccode=291063&amp;stfips=00&amp;jobfam=29" TargetMode="External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sk yourself..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ich of the materials we just used wer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ntende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to be used in science instruct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gne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tati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fra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u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895480" y="6172200"/>
            <a:ext cx="4114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trac4la.files.wordpress.com/2013/01/bp_oil_spill_bird.png"/>
          <p:cNvPicPr/>
          <p:nvPr/>
        </p:nvPicPr>
        <p:blipFill>
          <a:blip r:embed="rId2"/>
          <a:stretch/>
        </p:blipFill>
        <p:spPr>
          <a:xfrm>
            <a:off x="1066680" y="990720"/>
            <a:ext cx="7640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here is beauty in everything, but        not everyone is capable of seeing i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onfuciu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here is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curriculum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in everything, but not everyone is capable of seeing i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90720" y="42670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urriculum materials embody the intentions of the developers imperfect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re complex and comprehensive materials may yield a richer array of possible us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t may be possible to use rather limited and standard materials and to create exciting and motivating experien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t is possible to use materials that were not intended for teaching in creative ways to support curriculum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Interpretatio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achers do not simply implement curriculum, they also interpre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“reading” of curriculum potential depends not only on the inherent qualities of the materials, but also, to a large extent, on the teachers’ interpretive abilities and on their professional imagin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xplicit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tended learning outc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so known as th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formal curriculum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 th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official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curriculum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although those terms do have slightly different implications.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dden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intended learning outc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so know as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nformal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mplic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re is a sense in the idea of the “hidden curriculum” that students are learning things that are not stated, but that they are held accountable for in informal way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ased on what is considered “normal”, which brings in the concept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hegemon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gemon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ituation in which one state or way of being/knowing predominat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ually the hegemonic condition is an implicit part of a culture, going unstated and unrecognized because it is simply considered norm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gemony is usually promoted by the implicit messages presented in a cul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are scientist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8" name="Picture 2" descr="http://seedmagazine.com/stateofscience/img/stateofscience/draw-a-scientist2.jpg"/>
          <p:cNvPicPr/>
          <p:nvPr/>
        </p:nvPicPr>
        <p:blipFill>
          <a:blip r:embed="rId1"/>
          <a:stretch/>
        </p:blipFill>
        <p:spPr>
          <a:xfrm>
            <a:off x="1962000" y="2149560"/>
            <a:ext cx="59817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ull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is left out, either intentionally or unintentionally, from the curricul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cisions about what are included or not in a curriculum—what becomes the null curriculum—are always political, even when (especially when) they are unintentional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s this beautiful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6" descr="http://www.siteselection.com/ssinsider/special/images/sr110113a.jpg"/>
          <p:cNvPicPr/>
          <p:nvPr/>
        </p:nvPicPr>
        <p:blipFill>
          <a:blip r:embed="rId1"/>
          <a:stretch/>
        </p:blipFill>
        <p:spPr>
          <a:xfrm>
            <a:off x="1447920" y="2057400"/>
            <a:ext cx="6629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o we include it?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ademy award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ocus events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rgo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p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production – sex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BP oil spil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ealth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oliti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ways social power is gained, given, taken, lost, denied, and us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nce “knowledge is power”, anything that contributes to or detracts from opportunities to learn is inherently polit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curriculum construction affects opportunities to learn, it is a political a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en In-Demand Jobs at 6 Figur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0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Lead Software Engine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9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IT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8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Product Marketing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7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Tax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6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harmac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5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Engineering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4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Sales Directo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Dent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Physician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Psychiatr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ttp://jobs.aol.com/articles/2013/02/06/six-figure-jobs-in-demand/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ghest Paying Job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2170080"/>
          <a:ext cx="7543800" cy="3849840"/>
        </p:xfrm>
        <a:graphic>
          <a:graphicData uri="http://schemas.openxmlformats.org/drawingml/2006/table">
            <a:tbl>
              <a:tblPr/>
              <a:tblGrid>
                <a:gridCol w="609480"/>
                <a:gridCol w="3505320"/>
                <a:gridCol w="1371600"/>
                <a:gridCol w="2057400"/>
              </a:tblGrid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1"/>
                        </a:rPr>
                        <a:t>Anesthesiolog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2"/>
                        </a:rPr>
                        <a:t>Obstetricians and Gynecolog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3"/>
                        </a:rPr>
                        <a:t>Oral and Maxillofacial Surgeon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4"/>
                        </a:rPr>
                        <a:t>Orthodont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944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5"/>
                        </a:rPr>
                        <a:t>Physicians and Surgeons, All Oth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6"/>
                        </a:rPr>
                        <a:t>Surgeon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7"/>
                        </a:rPr>
                        <a:t>Internists, General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8.06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3,2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sychiatr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1.9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70,4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Family and General Practitioner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0.29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67,0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hief Executive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0.25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66,900 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Box 5"/>
          <p:cNvSpPr/>
          <p:nvPr/>
        </p:nvSpPr>
        <p:spPr>
          <a:xfrm>
            <a:off x="1326240" y="624672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U.S. Department of Lab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rriculum interpretation gives insight into different levels of the curriculum—the explicit, hidden, and null curricul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nce different levels of the curriculum are recognized, the teacher can set out to implement, enhance, or augment the curricul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www.washingtonpost.com/wp-srv/special/local/inauguration-2013/obama-inauguration-then-and-now/img/BEFORES-jefferson-memorial.jpg"/>
          <p:cNvPicPr/>
          <p:nvPr/>
        </p:nvPicPr>
        <p:blipFill>
          <a:blip r:embed="rId2"/>
          <a:stretch/>
        </p:blipFill>
        <p:spPr>
          <a:xfrm>
            <a:off x="1143000" y="1447920"/>
            <a:ext cx="7526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 ELED, is it OK to discuss..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aut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ne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environmen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unting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x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s this beautiful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362320" y="5029200"/>
            <a:ext cx="5333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www.bloomberg.com/image/iOqzHPjCvpQM.jpg"/>
          <p:cNvPicPr/>
          <p:nvPr/>
        </p:nvPicPr>
        <p:blipFill>
          <a:blip r:embed="rId2"/>
          <a:stretch/>
        </p:blipFill>
        <p:spPr>
          <a:xfrm>
            <a:off x="1935000" y="2154240"/>
            <a:ext cx="57913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energyboom.com/sites/default/files/imagecache/nodeFull/bp-oil-spill_3.jpg"/>
          <p:cNvPicPr/>
          <p:nvPr/>
        </p:nvPicPr>
        <p:blipFill>
          <a:blip r:embed="rId2"/>
          <a:stretch/>
        </p:blipFill>
        <p:spPr>
          <a:xfrm>
            <a:off x="1036800" y="1143000"/>
            <a:ext cx="7650000" cy="5105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1036800" y="5867280"/>
            <a:ext cx="7650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Picture 5" descr="https://encrypted-tbn2.gstatic.com/images?q=tbn:ANd9GcTInN2_aGDO-lZDmK3zHhDTagFMHjo6E58fja2S4WHt9OQFTkXf"/>
          <p:cNvPicPr/>
          <p:nvPr/>
        </p:nvPicPr>
        <p:blipFill>
          <a:blip r:embed="rId1"/>
          <a:stretch/>
        </p:blipFill>
        <p:spPr>
          <a:xfrm>
            <a:off x="1143000" y="1066680"/>
            <a:ext cx="755820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Picture 5" descr="http://l1.yimg.com/bt/api/res/1.2/sGyxpCN7ObwUJEyOqHN99Q--/YXBwaWQ9eW5ld3M7Y2g9MjQ0Njtjcj0xO2N3PTMyNjQ7ZHg9MDtkeT0wO2ZpPXVsY3JvcDtoPTQ3MztxPTg1O3c9NjMw/http:/l.yimg.com/os/152/2012/04/20/98606587-jpg_155417.jpg"/>
          <p:cNvPicPr/>
          <p:nvPr/>
        </p:nvPicPr>
        <p:blipFill>
          <a:blip r:embed="rId1"/>
          <a:stretch/>
        </p:blipFill>
        <p:spPr>
          <a:xfrm>
            <a:off x="1066680" y="1066680"/>
            <a:ext cx="7229520" cy="5410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https://encrypted-tbn2.gstatic.com/images?q=tbn:ANd9GcTsGnY8EKGywkBuh322LShYeHAZZSwAnVdLomqCopjaQsoqzrI1"/>
          <p:cNvPicPr/>
          <p:nvPr/>
        </p:nvPicPr>
        <p:blipFill>
          <a:blip r:embed="rId2"/>
          <a:stretch/>
        </p:blipFill>
        <p:spPr>
          <a:xfrm>
            <a:off x="1066680" y="1447920"/>
            <a:ext cx="764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16:50:26Z</dcterms:created>
  <dc:creator>its</dc:creator>
  <dc:description/>
  <dc:language>en-US</dc:language>
  <cp:lastModifiedBy>Administrator</cp:lastModifiedBy>
  <dcterms:modified xsi:type="dcterms:W3CDTF">2013-02-25T18:47:11Z</dcterms:modified>
  <cp:revision>177</cp:revision>
  <dc:subject/>
  <dc:title>Curriculum Potential </dc:title>
</cp:coreProperties>
</file>