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BC82-CE01-413C-8D89-D08227D9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D4F3-6F54-4504-BB6C-054486010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1B35-102D-417A-9EF9-2C64B56F6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4A4B-6365-42E2-B165-CC90817CC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61F27-AAA4-4B14-A558-DF4D3151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B43EE-E718-4134-A391-0F992F040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F02E-1C00-4DA3-B132-3D206E53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01E9D-B037-4B5B-9C4B-C5CBD3A3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FE56-BF95-4766-869F-24EE28A3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B5EC-47C1-4FAF-8678-391FF863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1CE2C-DA2B-42B6-BC7E-37B1DA78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2FCA-DA91-4361-A57E-17830F347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FD90-9C2E-4236-904C-4AA5B04AF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CE95A-6DA8-4831-B635-07CBEFDE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A7C09-716D-4873-9A1B-7ED3A28D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55BF3-69DC-4DF7-938A-0507D504F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60085-328D-463D-9E6D-D6A99C00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901-B788-47B7-8FE3-684002449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B37-6A26-48A7-99B9-0661BFC37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79D6-6C83-48FC-8D2A-9771B0F1D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1F5-7723-491A-8D81-783C2F92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AB37-C53D-493E-A11D-26D0E1E6E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0DCC-A1A0-4F0B-A3E9-AFBECD1A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71C6-19D5-4A2A-83BF-A2ECAC40D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9A5F3-4985-4EFE-89D0-F6C0CE136F19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5F230-CD48-47DB-818E-E7B06D973350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ol.careerbuilder.com/jobs/keyword/lead+software+engineer/?siteid=cbaol95lst" TargetMode="External"/><Relationship Id="rId2" Type="http://schemas.openxmlformats.org/officeDocument/2006/relationships/hyperlink" Target="http://aol.careerbuilder.com/jobs/keyword/IT+Manager/?siteid=cbaol95lst" TargetMode="External"/><Relationship Id="rId3" Type="http://schemas.openxmlformats.org/officeDocument/2006/relationships/hyperlink" Target="http://aol.careerbuilder.com/jobs/keyword/product+marketing+manager/?siteid=cbaol95lst" TargetMode="External"/><Relationship Id="rId4" Type="http://schemas.openxmlformats.org/officeDocument/2006/relationships/hyperlink" Target="http://aol.careerbuilder.com/jobs/keyword/tax+manager/?siteid=cbaol95lst" TargetMode="External"/><Relationship Id="rId5" Type="http://schemas.openxmlformats.org/officeDocument/2006/relationships/hyperlink" Target="http://aol.careerbuilder.com/jobs/keyword/pharmacist/?siteid=cbaol95lst" TargetMode="External"/><Relationship Id="rId6" Type="http://schemas.openxmlformats.org/officeDocument/2006/relationships/hyperlink" Target="http://aol.careerbuilder.com/jobs/keyword/engineer+manager/?siteid=cbaol95lst" TargetMode="External"/><Relationship Id="rId7" Type="http://schemas.openxmlformats.org/officeDocument/2006/relationships/hyperlink" Target="http://aol.careerbuilder.com/jobs/keyword/sales+director/?siteid=cbaol95lst" TargetMode="External"/><Relationship Id="rId8" Type="http://schemas.openxmlformats.org/officeDocument/2006/relationships/hyperlink" Target="http://aol.careerbuilder.com/jobs/keyword/dentist/?siteid=cbaol95lst" TargetMode="External"/><Relationship Id="rId9" Type="http://schemas.openxmlformats.org/officeDocument/2006/relationships/hyperlink" Target="http://aol.careerbuilder.com/jobs/keyword/physician/?siteid=cbaol95lst" TargetMode="External"/><Relationship Id="rId10" Type="http://schemas.openxmlformats.org/officeDocument/2006/relationships/hyperlink" Target="http://aol.careerbuilder.com/jobs/keyword/psychiatrist/?siteid=cbaol95lst" TargetMode="External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areerinfonet.org/occ_rep.asp?next=occ_rep&amp;level=overall&amp;optstatus=110000000&amp;id=&amp;nodeid=2&amp;soccode=291061&amp;stfips=00&amp;jobfam=29" TargetMode="External"/><Relationship Id="rId2" Type="http://schemas.openxmlformats.org/officeDocument/2006/relationships/hyperlink" Target="http://www.careerinfonet.org/occ_rep.asp?next=occ_rep&amp;level=overall&amp;optstatus=110000000&amp;id=&amp;nodeid=2&amp;soccode=291064&amp;stfips=00&amp;jobfam=29" TargetMode="External"/><Relationship Id="rId3" Type="http://schemas.openxmlformats.org/officeDocument/2006/relationships/hyperlink" Target="http://www.careerinfonet.org/occ_rep.asp?next=occ_rep&amp;level=overall&amp;optstatus=110000000&amp;id=&amp;nodeid=2&amp;soccode=291022&amp;stfips=00&amp;jobfam=29" TargetMode="External"/><Relationship Id="rId4" Type="http://schemas.openxmlformats.org/officeDocument/2006/relationships/hyperlink" Target="http://www.careerinfonet.org/occ_rep.asp?next=occ_rep&amp;level=overall&amp;optstatus=110000000&amp;id=&amp;nodeid=2&amp;soccode=291023&amp;stfips=00&amp;jobfam=29" TargetMode="External"/><Relationship Id="rId5" Type="http://schemas.openxmlformats.org/officeDocument/2006/relationships/hyperlink" Target="http://www.careerinfonet.org/occ_rep.asp?next=occ_rep&amp;level=overall&amp;optstatus=110000000&amp;id=&amp;nodeid=2&amp;soccode=291069&amp;stfips=00&amp;jobfam=29" TargetMode="External"/><Relationship Id="rId6" Type="http://schemas.openxmlformats.org/officeDocument/2006/relationships/hyperlink" Target="http://www.careerinfonet.org/occ_rep.asp?next=occ_rep&amp;level=overall&amp;optstatus=110000000&amp;id=&amp;nodeid=2&amp;soccode=291067&amp;stfips=00&amp;jobfam=29" TargetMode="External"/><Relationship Id="rId7" Type="http://schemas.openxmlformats.org/officeDocument/2006/relationships/hyperlink" Target="http://www.careerinfonet.org/occ_rep.asp?next=occ_rep&amp;level=overall&amp;optstatus=110000000&amp;id=&amp;nodeid=2&amp;soccode=291063&amp;stfips=00&amp;jobfam=29" TargetMode="External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sk yourself..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ich of the materials we just used wer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ntende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to be used in science instruct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agnet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tati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Refra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oun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Frictio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895480" y="6172200"/>
            <a:ext cx="4114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ttp://trac4la.files.wordpress.com/2013/01/bp_oil_spill_bird.png"/>
          <p:cNvPicPr/>
          <p:nvPr/>
        </p:nvPicPr>
        <p:blipFill>
          <a:blip r:embed="rId2"/>
          <a:stretch/>
        </p:blipFill>
        <p:spPr>
          <a:xfrm>
            <a:off x="1066680" y="990720"/>
            <a:ext cx="76406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here is beauty in everything, but        not everyone is capable of seeing i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Confuciu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med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4419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762120" y="1143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There is 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</a:rPr>
              <a:t>curriculum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 in everything, but not everyone is capable of seeing it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990720" y="42670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Curriculum materials embody the intentions of the developers imperfectly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More complex and comprehensive materials may yield a richer array of possible us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t may be possible to use rather limited and standard materials and to create exciting and motivating experiences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t is possible to use materials that were not intended for teaching in creative ways to support curriculum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Interpretation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eachers do not simply implement curriculum, they also interpret 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“reading” of curriculum potential depends not only on the inherent qualities of the materials, but also, to a large extent, on the teachers’ interpretive abilities and on their professional imaginatio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Explicit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tended learning outc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so known as th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formal curriculum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r the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offici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curriculum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although those terms do have slightly different implications.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dden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nintended learning outcom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lso know as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nformal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implici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re is a sense in the idea of the “hidden curriculum” that students are learning things that are not stated, but that they are held accountable for in informal way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ased on what is considered “normal”, which brings in the concept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hegemon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egemony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situation in which one state or way of being/knowing predominate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Usually the hegemonic condition is an implicit part of a culture, going unstated and unrecognized because it is simply considered norm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egemony is usually promoted by the implicit messages presented in a cultu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o are scientists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38" name="Picture 2" descr="http://seedmagazine.com/stateofscience/img/stateofscience/draw-a-scientist2.jpg"/>
          <p:cNvPicPr/>
          <p:nvPr/>
        </p:nvPicPr>
        <p:blipFill>
          <a:blip r:embed="rId1"/>
          <a:stretch/>
        </p:blipFill>
        <p:spPr>
          <a:xfrm>
            <a:off x="1962000" y="2149560"/>
            <a:ext cx="59817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Null Curriculum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hat is left out, either intentionally or unintentionally, from the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Decisions about what are included or not in a curriculum—what becomes the null curriculum—are always political, even when (especially when) they are unintentional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s this beautiful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Picture 6" descr="http://www.siteselection.com/ssinsider/special/images/sr110113a.jpg"/>
          <p:cNvPicPr/>
          <p:nvPr/>
        </p:nvPicPr>
        <p:blipFill>
          <a:blip r:embed="rId1"/>
          <a:stretch/>
        </p:blipFill>
        <p:spPr>
          <a:xfrm>
            <a:off x="1447920" y="2057400"/>
            <a:ext cx="66294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Do we include it?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cademy award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ocus events of </a:t>
            </a:r>
            <a:r>
              <a:rPr b="0" i="1" lang="en-US" sz="3200" spc="-1" strike="noStrike">
                <a:solidFill>
                  <a:srgbClr val="5b5249"/>
                </a:solidFill>
                <a:latin typeface="Times New Roman"/>
              </a:rPr>
              <a:t>Argo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ap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production – sex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BP oil spil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ental health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olitic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ways social power is gained, given, taken, lost, denied, and us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nce “knowledge is power”, anything that contributes to or detracts from opportunities to learn is inherently polit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cause curriculum construction affects opportunities to learn, it is a political ac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Ten In-Demand Jobs at 6 Figure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0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"/>
              </a:rPr>
              <a:t>Lead Software Engine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9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IT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8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3"/>
              </a:rPr>
              <a:t>Product Marketing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7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4"/>
              </a:rPr>
              <a:t>Tax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6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5"/>
              </a:rPr>
              <a:t>Pharmac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5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6"/>
              </a:rPr>
              <a:t>Engineering Manage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4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7"/>
              </a:rPr>
              <a:t>Sales Director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3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8"/>
              </a:rPr>
              <a:t>Dent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2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9"/>
              </a:rPr>
              <a:t>Physician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br>
              <a:rPr sz="1800"/>
            </a:b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1. </a:t>
            </a: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10"/>
              </a:rPr>
              <a:t>Psychiatrist</a:t>
            </a: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b5249"/>
                </a:solidFill>
                <a:latin typeface="Times New Roman"/>
              </a:rPr>
              <a:t>http://jobs.aol.com/articles/2013/02/06/six-figure-jobs-in-demand/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ighest Paying Jobs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2170080"/>
          <a:ext cx="7543800" cy="3849840"/>
        </p:xfrm>
        <a:graphic>
          <a:graphicData uri="http://schemas.openxmlformats.org/drawingml/2006/table">
            <a:tbl>
              <a:tblPr/>
              <a:tblGrid>
                <a:gridCol w="609480"/>
                <a:gridCol w="3505320"/>
                <a:gridCol w="1371600"/>
                <a:gridCol w="2057400"/>
              </a:tblGrid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1"/>
                        </a:rPr>
                        <a:t>Anesthesiolog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2"/>
                        </a:rPr>
                        <a:t>Obstetricians and Gynecolog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3"/>
                        </a:rPr>
                        <a:t>Oral and Maxillofacial Surgeo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4"/>
                        </a:rPr>
                        <a:t>Orthodont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944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5"/>
                        </a:rPr>
                        <a:t>Physicians and Surgeons, All Other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6"/>
                        </a:rPr>
                        <a:t>Surgeon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90.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7,200+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32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b0ae6a"/>
                          </a:solidFill>
                          <a:uFillTx/>
                          <a:latin typeface="Times New Roman"/>
                          <a:hlinkClick r:id="rId7"/>
                        </a:rPr>
                        <a:t>Internists, General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8.06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83,2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Psychiatrist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1.9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70,4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Family and General Practitioner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0.29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67,000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5680"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Chief Executives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80.25   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440" rIns="19440" tIns="19440" bIns="1944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5b5249"/>
                          </a:solidFill>
                          <a:latin typeface="Times New Roman"/>
                        </a:rPr>
                        <a:t>$166,900  </a:t>
                      </a:r>
                      <a:endParaRPr b="0" lang="en-US" sz="20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19440" marR="19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TextBox 5"/>
          <p:cNvSpPr/>
          <p:nvPr/>
        </p:nvSpPr>
        <p:spPr>
          <a:xfrm>
            <a:off x="1326240" y="624672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U.S. Department of Labo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urriculum Potential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urriculum interpretation gives insight into different levels of the curriculum—the explicit, hidden, and null curricula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Once different levels of the curriculum are recognized, the teacher can set out to implement, enhance, or augment the curriculum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http://www.washingtonpost.com/wp-srv/special/local/inauguration-2013/obama-inauguration-then-and-now/img/BEFORES-jefferson-memorial.jpg"/>
          <p:cNvPicPr/>
          <p:nvPr/>
        </p:nvPicPr>
        <p:blipFill>
          <a:blip r:embed="rId2"/>
          <a:stretch/>
        </p:blipFill>
        <p:spPr>
          <a:xfrm>
            <a:off x="1143000" y="1447920"/>
            <a:ext cx="75261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n ELED, is it OK to discuss...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Beaut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Money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environment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Hunting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Religion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x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Is this beautiful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2362320" y="5029200"/>
            <a:ext cx="5333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http://www.bloomberg.com/image/iOqzHPjCvpQM.jpg"/>
          <p:cNvPicPr/>
          <p:nvPr/>
        </p:nvPicPr>
        <p:blipFill>
          <a:blip r:embed="rId2"/>
          <a:stretch/>
        </p:blipFill>
        <p:spPr>
          <a:xfrm>
            <a:off x="1935000" y="2154240"/>
            <a:ext cx="57913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http://www.energyboom.com/sites/default/files/imagecache/nodeFull/bp-oil-spill_3.jpg"/>
          <p:cNvPicPr/>
          <p:nvPr/>
        </p:nvPicPr>
        <p:blipFill>
          <a:blip r:embed="rId2"/>
          <a:stretch/>
        </p:blipFill>
        <p:spPr>
          <a:xfrm>
            <a:off x="1036800" y="1143000"/>
            <a:ext cx="7650000" cy="51055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1036800" y="5867280"/>
            <a:ext cx="7650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0" name="Picture 5" descr="https://encrypted-tbn2.gstatic.com/images?q=tbn:ANd9GcTInN2_aGDO-lZDmK3zHhDTagFMHjo6E58fja2S4WHt9OQFTkXf"/>
          <p:cNvPicPr/>
          <p:nvPr/>
        </p:nvPicPr>
        <p:blipFill>
          <a:blip r:embed="rId1"/>
          <a:stretch/>
        </p:blipFill>
        <p:spPr>
          <a:xfrm>
            <a:off x="1143000" y="1066680"/>
            <a:ext cx="7558200" cy="50292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3" name="Picture 5" descr="http://l1.yimg.com/bt/api/res/1.2/sGyxpCN7ObwUJEyOqHN99Q--/YXBwaWQ9eW5ld3M7Y2g9MjQ0Njtjcj0xO2N3PTMyNjQ7ZHg9MDtkeT0wO2ZpPXVsY3JvcDtoPTQ3MztxPTg1O3c9NjMw/http:/l.yimg.com/os/152/2012/04/20/98606587-jpg_155417.jpg"/>
          <p:cNvPicPr/>
          <p:nvPr/>
        </p:nvPicPr>
        <p:blipFill>
          <a:blip r:embed="rId1"/>
          <a:stretch/>
        </p:blipFill>
        <p:spPr>
          <a:xfrm>
            <a:off x="1066680" y="1066680"/>
            <a:ext cx="7229520" cy="5410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66680" y="21016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https://encrypted-tbn2.gstatic.com/images?q=tbn:ANd9GcTsGnY8EKGywkBuh322LShYeHAZZSwAnVdLomqCopjaQsoqzrI1"/>
          <p:cNvPicPr/>
          <p:nvPr/>
        </p:nvPicPr>
        <p:blipFill>
          <a:blip r:embed="rId2"/>
          <a:stretch/>
        </p:blipFill>
        <p:spPr>
          <a:xfrm>
            <a:off x="1066680" y="1447920"/>
            <a:ext cx="7645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28T16:50:26Z</dcterms:created>
  <dc:creator>its</dc:creator>
  <dc:description/>
  <dc:language>en-US</dc:language>
  <cp:lastModifiedBy>Administrator</cp:lastModifiedBy>
  <dcterms:modified xsi:type="dcterms:W3CDTF">2013-02-25T18:47:11Z</dcterms:modified>
  <cp:revision>177</cp:revision>
  <dc:subject/>
  <dc:title>Curriculum Potential </dc:title>
</cp:coreProperties>
</file>