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FBD8-A67B-4AD8-898C-A713F64D3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4F55-435A-4CEF-A8AB-8C89F40D1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3FCE-97E7-4987-8546-84E4DBAD2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A47A-6580-48E4-A205-8596A3C5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484E-F515-4DDF-BCFB-9F6E100D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7194-6257-47C6-9EBE-E473C5B52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A634-8828-4CC3-A12A-11BCAC7F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BC55-44AD-4837-BFE3-825F09F61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3D0B-16D5-46BC-B676-D14EB1DF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DF3B-9EE6-4479-83EE-6D47EA26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77C0-A54A-4799-B517-4834431C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C27EE-05C6-42B9-AC78-167416CE4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18EB-B50E-4D3D-9157-272EFB8A5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5554-F696-4E76-A782-2B2FC425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A4472-1182-4609-AFAE-85DE188FC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BD41-61EA-4876-9594-A1DE23A3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6542-1D56-4C19-997F-9DE8F0C06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F8800-4499-41E4-A6D3-69D5F3D04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7D849-EBEE-4CC5-AFD7-29587634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DE733-C5FC-4424-9966-9BD79D831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63ACAA-2BD1-477E-864A-8D3001F73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BD2D2-BECB-4DBB-9A1F-46B61BED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FB3-B88B-4BFF-92F5-B245FF9D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41425-DF98-46FB-A709-29A83E73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F3229-E966-47B0-849B-CA114172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97DEC-E03D-4568-B3E0-75E7E966D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C8D1-6C03-463C-BF59-9B75F6E1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B7401-749F-4A69-927A-3F3838380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AA98C-2B84-4CFF-BCB1-3252D0DE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32B34-7435-4719-99F2-C49E0F369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6CFE-D0EB-4485-B5C0-CEB72A75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7A932-7AA1-44E8-84E0-2B4D231B4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C7949-7ACE-4FFD-8D82-4CECE846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2595-D19C-41E2-92A3-7714B90B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2ED01-A74A-4D1A-8653-BF49FA51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5AC61-D5A7-4E7C-9BC2-A220583C0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819DD-AF0E-470D-A445-8E670D37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D3C6D-E4A0-4874-9919-7F4042D2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731F-D645-4028-940E-AF2C9163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34797-20FC-4D53-A77D-BFA485E5E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42179-6F95-4637-9CED-D92B17F2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CB051-EBDA-4D01-84D9-F947BA28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7B4A6-E978-417C-BB36-33D23B3F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D9B7-879D-4962-9190-FF1894D2C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6051-C2D8-4B98-A2AB-723531C8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0215D-EA11-4C85-9A7C-AFAE3576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F90B-B406-4AE4-B736-40A9F616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26D77-FBCD-4ADE-885B-4C4CC6FB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B8C95-6545-4909-A736-E3DDEB4B4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02A0-4B97-4259-B5AA-EC7CD34B0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CDA3B0-615A-48F3-8149-BBAD74A1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9DEDA-2697-4BB6-91BE-54DBEA8AE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22EDE-FE65-440B-BC96-923DE639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DF270-81B9-4D22-B7C8-1D0559AC3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AE280-A471-41C9-8828-07B04FC5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A4F5-DB37-4779-AE5F-15DFED4BE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C5058-C003-4704-AD17-9A5C69BC9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2BA25-A6ED-4C6E-8AAD-E1E8880D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435F3-7702-48C5-A7D8-532BCDB5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439AF-F021-4331-9DB7-082C501BD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1B2F7-F987-4643-A266-7AA565BD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27FAD-2D01-4971-87C6-BDF462624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06A3-8FCD-477F-82EC-0555D2C94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D195E-5950-4038-95E1-6D63B7C3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70D14-05F3-4A60-89B9-75471D23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778189-D58F-47CE-946D-9A2FD3271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E0F0-0FF0-4EC1-8401-E34E8F43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9DBEAB-383A-425B-8FA0-35F7909E3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29368-A642-4140-952E-43B1983C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6310C-E295-4882-B355-B6ECEC557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9F871E-B9B3-4075-B8A5-192778A8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94359B-4ED6-4375-A6E8-516E25F9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8E9CCC-C3DE-48F7-A3F1-BF8F52AA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0DB9EE-11EE-4906-98DE-DA79AA50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D04AFF-6D25-4275-9B4B-EB9CE96A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E6CFD-CF4C-47F0-A023-48B0FBB1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D0FDD-75B0-4498-9276-54F26DC1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9A9A-C70C-49CD-BF3B-52B89431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253DDB-7AD4-42CF-A1A4-1EEB26F32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A28671-ACEF-4F74-9233-26D4BF3CF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45D89F-91A7-4294-837C-BCB87C77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C027D-B7FD-4403-A378-DB24AFC3F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B036D-92B9-4B3C-9409-71ADB066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501D0E-8529-4930-B807-BC17578D7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6EA39E-2FF1-4860-87B1-5811D0672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B80641-709D-4756-B0E8-8AF63798F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82B43E-F09E-4628-A553-709AAD43F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EF5C10-694B-417C-B6FF-74893E4B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700-CD26-4E16-BFF0-BE4778DD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2E17B-777B-4A6F-AB26-C427F621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FE62AF-29E6-4069-992F-CD89C2BD3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9F1346-B43F-4559-9069-3E4CD7353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54E16-3823-44A5-AC81-EF806D8F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F407D9-FC03-48A4-A4BB-BFB19830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5133A-4257-4F2B-AB9A-2A40C6F9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16AAC-EBB5-4447-8351-543DC37F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16ED-897D-41EB-96C1-FEE62D128E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133F3-5B66-4E40-8F74-4B7C344754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055D9-370F-4542-9F21-E469C960E7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B7036-E5E7-4631-8EAB-87A45D1870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E8D4-EBD4-4D34-BCD4-32051D1582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AC28-5B1E-4DED-9BBE-B0DA60CF44F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B22AD-96D4-4F93-87C1-D692BC08A90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6B75-D623-4361-9122-8703DD1EEE2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urpose, Syntax, and Techniq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att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ablish relev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prior knowl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a good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te inqui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ood story (narrat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ystery (intrig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ame (challenge/puzz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different (novelt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flashy (vividnes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bout them (relevan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hance to be successful (self-actualiz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was just thinking about…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hat leads to the question…_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“thinking about” to other verb phrases (e.g., “listening to”, “playing with”, “wondering about”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question needs to be a science question…one that can be answered through inquiry activity, investigation, and/or experimentati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ity – manipulating materials to learn about someth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ion – an activity that is focused on a ques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eriment – an investigation that tests relationships, such as between vari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 of these can provide evidence for answering science ques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9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evant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s science proce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ies on inductive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serv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er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d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siz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ing (science)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investigations and/or experi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broken 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nd is composed of broken bits of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 (Dedu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nd is made of broken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find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35:45Z</dcterms:created>
  <dc:creator>Information  Technology</dc:creator>
  <dc:description/>
  <dc:language>en-US</dc:language>
  <cp:lastModifiedBy>Information  Technology</cp:lastModifiedBy>
  <dcterms:modified xsi:type="dcterms:W3CDTF">2010-09-07T17:29:46Z</dcterms:modified>
  <cp:revision>10</cp:revision>
  <dc:subject/>
  <dc:title>Engagement</dc:title>
</cp:coreProperties>
</file>