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978-8DC4-44AF-AEC5-BA256BAA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403-18C5-42D4-AEAC-DA0955FD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B27-F346-4618-B6B8-CA5EAC07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42F-1D2E-46C5-B11E-B9432180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1173-779F-4B87-B883-B1FA15A9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FC34-B389-49BB-A658-14247D3F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3EE0-BB10-465C-90A0-B9711E81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D6A0-A305-461B-BFC8-BE63602A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B5BF-6C18-4D15-935E-DE3F0F59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6F45-70D1-4D2C-9EC3-B5382512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47BA-26F7-4107-AC88-08250950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F8D-E402-46C2-8470-FF57B89D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E7E1-16CA-4F8C-B54E-028904F1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CBB1-98DC-4528-B011-0A170269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A2E6-BF9E-4A8C-A575-3CFE8451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EAFB-8CA4-48A9-AAA2-D7E00F59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C8C0-86AE-4137-886B-CE40DF2F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3C5B-A8D8-4BF3-9C7D-B46827B4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C428-51DA-4300-8533-8B0BCE8A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20D5-7636-498E-8966-0D3FFF80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EFCF-B854-4CE6-8D6C-D207AE7C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75C5-5FA4-4FB5-99F9-B0A9A2FA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9F3-6AA1-4152-B754-6F8D88B4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98C4C-9D2C-491C-AA0B-7F456780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D99F-CDF5-4F8B-851B-00B7C257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4BCC-E3C1-4101-96F6-5B3626C0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8161-24EA-4D53-BD40-169876AB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B543-FB34-47BF-B34B-C928B971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427E-5845-4263-ADEA-BE0F1214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0926A-3F34-4F5E-AEC4-D4A51203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CFBC8-5A6D-4899-A0F4-3BE62D43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1CA92-DAA5-491F-A343-250B1BA3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524B3-DEE3-4475-9633-269063F6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82A-18C9-4E23-82A2-01A83340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3D345-9C08-43FD-86BD-06796214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1940-8C3D-4CB9-AADB-A4932CE0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C924-B1F5-47E0-A03C-BD1475DB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AACB0-874F-4EC7-9707-77133C16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C7E1-FA71-4BC5-89AD-60FFA1E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A1AE-1AA7-4B06-8627-4F6A32E3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EBD0E-46B4-4FF8-9B31-262FA5F1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096CD-805B-4944-9462-10074E21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B2E2-0E75-441A-A1D3-54150CA6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42983-8D59-456A-B022-193DAE17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8E1-0C3E-48AE-B785-0D8704BD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8BE8D-F4C5-4A1B-BC70-B10C083B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F4BA6-D80C-4807-997C-BB88DED0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7CB4-EA43-4D22-9E9C-D8596DCF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723E-86A7-46E9-A3D7-0BC11083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474C4-29F0-48FE-984C-2CB064D1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5DD2C-6C2D-412E-B521-6D4B2EDC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3C8E2-7F6A-43CA-87BF-385D8749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4A7AB-E6E3-438E-AB39-BE03904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A23AA-82B4-49BF-B35A-7D79A47A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A9158-34A7-4C40-B21A-AA1DA26A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DD8-03E1-4E1B-8225-130665EF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1136F-3AC7-4DB0-8C37-AFFE75CC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723B3-24B3-43AC-856E-BDB9523D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960B3-DC8C-4C9A-9171-3C508808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C452-261B-49B3-BC4F-7B657052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EB8F0-240F-4C99-A0A6-FA7F572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ACAB0-2C27-4825-BCD6-48A36F50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C47AA-8EE4-4C0D-89BC-E8B109ED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27DCD-1D0B-417F-BC6D-2C28FCF1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49FAC-6949-48CB-9D28-63C30CD4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1FA7B-B408-4067-9702-CA4A2E26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D71-6A9C-4346-9775-D0CAD949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1F7BB-3748-4879-A7F3-29DB7A28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F075C-71CB-4639-AFE4-89370C9B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6F1C6-41AE-49AD-9473-099F1949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7E301-AB12-4834-A69C-38E47908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178E0-7B16-41CE-94DE-ACE70D89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F1664-C840-4E1F-B445-24E3C003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8CC48-8494-4B5C-A229-E722D040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93A27-F519-45EA-8FF6-A07C8997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A1BE9-C7B1-4A0D-9CE1-2C43F640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93689-61B3-4529-B4F4-B47E0C7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D1A-5278-4058-AA9F-F69E38DC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0397D-9ACE-49A9-AABD-3105D97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2CA72-CD2C-452B-80E2-7B39EB72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8DCF9-5B18-4639-A5B9-CF015732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E23DD-246C-416E-8569-94A41065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14227-FED6-40B6-BA22-D7953A20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7B465-ADED-42D2-B4CE-D0EAAF1C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ADC0E-2098-4B7B-85A6-50C7A51F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22896-A39E-4956-B68A-F03D7715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FDB0C-FAF9-4F6B-99A8-51843F1B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9E68B-6194-43A8-BF7C-4A1ABA77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97F-097D-47E8-B4C1-977EA702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85DC3-673F-4442-9B07-5387096C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DD66C-91F2-45FA-98D8-60579990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1BD92-FF20-421B-A971-B13EF1BC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516E4-1A4C-4750-A275-B91DDEEA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FE609-14E1-4A30-92FD-7709B4D6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7EB25-1492-4658-800D-8AA8EBD6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DA155-0C4B-4219-9ECC-A50C46A1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190C-63D3-4E94-B23E-AE31DDCFE9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0383-6386-4175-9C2D-05F72D77F5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A300-DABF-432A-8EC0-CC2B9F3DD9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50C3-4207-46CF-A5F4-C74611101A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C38A-61B1-4660-A07A-BB89C21DE4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4225-FB64-4D13-BB21-06D97E1EAA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AFB5-152E-4107-98CC-36F9D6CBF3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3D9B-C5A9-40BA-ABED-9ED48F73AF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urpose, Syntax, and Techniq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att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tablish relev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prior knowled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 a good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te inqui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ood story (narrativ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mystery (intrig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ame (challenge/puzz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different (novelt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flashy (vividnes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bout them (relevanc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hance to be successful (self-actualiz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was just thinking about…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hat leads to the question…_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“thinking about” to other verb phrases (e.g., “listening to”, “playing with”, “wondering about”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question needs to be a science question…one that can be answered through inquiry activity, investigation, and/or experimentati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ity – manipulating materials to learn about someth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igation – an activity that is focused on a ques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periment – an investigation that tests relationships, such as between vari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 of these can provide evidence for answering science ques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99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evant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s science proce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ies on inductive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serv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er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d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siz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ing (science)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investigations and/or experi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broken 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and is composed of broken bits of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 (Deduc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nd is made of broken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find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35:45Z</dcterms:created>
  <dc:creator>Information  Technology</dc:creator>
  <dc:description/>
  <dc:language>en-US</dc:language>
  <cp:lastModifiedBy>Information  Technology</cp:lastModifiedBy>
  <dcterms:modified xsi:type="dcterms:W3CDTF">2010-09-07T17:29:46Z</dcterms:modified>
  <cp:revision>10</cp:revision>
  <dc:subject/>
  <dc:title>Engagement</dc:title>
</cp:coreProperties>
</file>