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A7CE-7696-4C74-9D71-40BE53ADF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831E-B7CE-49E7-8E07-468953CC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954A-C359-4CA6-A4F3-A1F14688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D566-99D2-472B-9332-53CC36573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2A37-6610-41E6-9890-ADB99924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BFA0-1126-4426-85C5-F68D5EB94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F1AA6-D635-4402-B0AF-5150408A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F617C-6C7F-44E4-BBC0-B627385B5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BD07-3FAA-43E3-B33A-60BBD95C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96AD3-B881-4190-9E88-C9CD4ACC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1D84F-5D72-44AF-B63D-23C09748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C9C-8379-46B9-B24C-A2DD6E02F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FB007-82DE-4585-9A44-AF3A91AC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98584-5651-42F0-BC1D-D37F6E15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97FA-233A-4267-9A2F-187AF314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893E-F56B-4940-B399-65CDE50B0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CEE2-D551-474B-B257-03B3CB87D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80F8A-0D48-4EC3-BCCF-80CFABE43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6E82-28D2-4ED0-8BAF-05EC3DD4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66846-BC7F-4844-972B-8B1D40DA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721A0-AF8C-4B0C-B401-512D5031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0BA1C-69C7-4C53-A66A-EA7AE9644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DD51-A24C-45A3-9587-E0E37ED5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3DE92-3FE9-439C-9567-AF18E7D9B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51BC4-C65E-4910-81AE-BC8BF844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6AF7FC-79CD-4AE7-BA45-C6AA6FB0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BCB56-5D16-4469-B53C-EFBEA90A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907A-F3B1-472E-BE7C-8C7C69AC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DDC7C-B784-4348-B2E5-11BD723F8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2CC36-ACFD-4E80-BF71-76DC30C6A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F7009-2637-49E8-BFB9-1B9795BDC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A4D858-1822-4295-A302-9B29DA306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E3B11-33A8-41A4-8498-563687E0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9E9-B22D-4E19-9879-2FCDE490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5B5F3-59B0-4976-BA46-8890D107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61ED8-E29C-43A6-AA49-F82CE2065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48DA-5171-4F8B-94E8-AA5D1FB1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735C2-CC71-457E-B3E4-044E29D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A288-738E-4968-82A4-EA88714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4077C-802C-43E7-8D2E-7409C152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1ABE8-0220-4DF0-B0F1-9B39D2E2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8F497-D6A3-474D-81C5-BE65E8B5E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3E71F-F122-454D-8E89-358F906C0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AF5B1-40F9-4D0C-BDE3-A3242A97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5C68-E670-47B5-8CA7-65383D61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B55B5-2486-4ADD-AEEE-6C8633CB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A3FE-7CB6-48F3-ACE7-14C3C3F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62CC3-D3F3-4D9B-B0A6-DFEE0DC2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09B43-9E94-4615-9715-B074CA988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0B17-42C2-434A-BD3C-5D9FE5FAA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545B0-7764-4306-8BB1-A75F4C0C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83C0A-2B5B-4926-AD58-89122693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E985B-1B90-407F-B1D2-13BF8298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09CA4-B46A-49F0-B78A-00896769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5F24B-21BB-42D2-9061-7680E9A96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981-B20C-4B41-95DB-98621AE6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7D2F7-BB1B-4D4D-BE17-00D291D7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25E72-BBC8-4117-9116-AE3EFEB93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078C0-24DB-49C1-A7E0-F439473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C4C0E-AF7D-4AAA-94A4-0F7F1400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F3BCC-1848-468E-A74B-1376046D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418D50-EE31-4AED-ABD4-863E4E2A1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BDC531-FA9D-4CCF-B22D-D8CF5529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02C5AA-FF0B-41A3-A9CB-7236BB10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4370D-537A-4CFD-A4B2-E4F6EFDA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4FF98-9AD1-4222-BC73-D5D65042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4115-90C5-467D-992A-9688FECE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C0B283-1ED8-48A4-9D27-4AFCA6AB6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99934-4EDC-44B1-B702-60BC7951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244A20-A4C4-46F7-9383-FA706A2F2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4B4DD-72C6-4CDE-9415-574EFE37B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3C35-D1FF-4479-8DDB-886B82C7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210903-7A17-46AE-8CD4-F2A6A5CC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8E74DD-5B22-427D-B218-B7EC43BED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94905-223C-4014-B1B0-7F9B8878E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03BAE-D15B-4C64-9875-8772CC3E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4A9BA-A490-46C9-9C7B-50ECC476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FA33-CE40-46DF-BEF1-1347187E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3B88E-FDCE-4FED-A5CD-FB8F99BC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D3074-112F-43FC-954C-FEFDF53A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C8C9FF-78CB-45E1-AF92-A1D493B9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DE300-7A74-4DF8-9F0A-FA4D5DEE9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89102-FA58-49F8-8BB7-1ABFA6DEF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DD61F-FD63-48A4-B937-C7637FC7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C51E3-3EFE-435F-B83E-11AE8879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FED17-668B-4FBF-9319-D6A0682CD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6167B7-CE1E-4B62-84A8-A3F26CBF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E0A3E-83A1-4CA7-93D8-7E5BE149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A5B9-BAAE-4285-B5E0-0FE95B27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13E673-B126-4C55-B33C-3944F9338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39A0B-64FD-48EA-9FB9-0E35B25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B4A32-8167-4109-A55C-BBD830967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47E5F-8909-4F1C-9D50-0BF3A4F0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5470C-6FCB-4BC4-B50D-6057AB1F4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9C8782-3F08-4E21-BF5E-20107F9C8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E1EAF6-1250-4632-B85A-7B78AEC4F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786D-EFD5-4466-B7CE-86405537930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6013-B82F-4911-979F-E7570BD404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4224A-28C6-4765-911A-C21473897CA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D761-8893-4042-92F2-103011DB5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1FD-E50F-47B0-B4AD-F91E9918891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CD1C-7DB8-4119-9BE1-D2C46CDF87D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823A-9C8B-4B75-A229-B0A9CB9E4A5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92518-9F4E-4D5E-86EE-78B026A0BFE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Purpose, Syntax, and Techniqu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cus atten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stablish relev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ate prior knowled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 a good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itiate inquir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ood story (narrativ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mystery (intrigu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game (challenge/puzzl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different (novelty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 little flashy (vividness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omething about them (relevance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chance to be successful (self-actualiza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 was just thinking about…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that leads to the question…__________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hange “thinking about” to other verb phrases (e.g., “listening to”, “playing with”, “wondering about”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question needs to be a science question…one that can be answered through inquiry activity, investigation, and/or experimentation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tivity – manipulating materials to learn about someth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vestigation – an activity that is focused on a ques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periment – an investigation that tests relationships, such as between variabl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 of these can provide evidence for answering science question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5899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evant science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ses science proces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lies on inductive appro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bserv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mun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assific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asur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e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ypothesiz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sking (science) ques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signing investigations and/or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 are broken 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sand is composed of broken bits of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lusions</a:t>
            </a:r>
            <a:r>
              <a:rPr b="0" lang="en-U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vidence (Deduction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and is made of broken shell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find bits of shells in the san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14:35:45Z</dcterms:created>
  <dc:creator>Information  Technology</dc:creator>
  <dc:description/>
  <dc:language>en-US</dc:language>
  <cp:lastModifiedBy>Information  Technology</cp:lastModifiedBy>
  <dcterms:modified xsi:type="dcterms:W3CDTF">2010-09-07T17:29:46Z</dcterms:modified>
  <cp:revision>10</cp:revision>
  <dc:subject/>
  <dc:title>Engagement</dc:title>
</cp:coreProperties>
</file>