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B84-FAD5-4001-B4B4-958D9A45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B70-5BDD-4251-906F-707CE944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039-E27F-4642-8534-196BFB25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33A-A4C1-4A59-8E37-9E127D9C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1A11-9400-46C1-9277-B18FDBB7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4EE0-8C4E-4D79-B85F-10DA4134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9304-A241-4513-A441-05ADC122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F92D-7288-4175-9DE2-0DAC660D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C007-2944-4FAA-BF61-0A10DD35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21A4-A4C8-404C-A732-F5C9B2A7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6C31-6135-46D6-9EE8-E66B0FF1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FB9-975F-49A4-8DA2-35E4CC72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AAE1-9E4D-4E62-B7F0-E239ABF6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BD4E-F500-4EFD-BA77-C0A38420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7F1E-1D84-4023-A37B-7A570E37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6144-614F-4E50-B4D3-158EE26B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8433-6F6D-4695-977E-50A21A82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AF30-2F6B-48B0-8A62-3B259499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73320-EDAC-43F6-B316-79FA92EA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F87FB-F3FE-44B2-8634-42FDB28D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72937-2FAA-4FFA-B155-19D122F4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3204-F212-4FA5-85C9-0EE9CD35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7FB-57A0-4713-9FFF-D5E26DAC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A575-73D3-4027-8AAD-1AFF53C7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BD2DF-3724-411F-ACF7-0E38775C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9927D-C548-40DD-9976-48727134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13922-B4EB-4275-9B89-6008263B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0193E-AC80-40F7-B004-441E59C6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E56BF-1C34-4E5C-AF7E-201EB01B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0CDA6-39DE-4A57-856D-FB88DCFF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45B20-66A0-4E0B-82FA-AB7A79A2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BA4DC-16CD-42CE-B5E3-9408F6A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0AE2-C316-4EDB-B8DB-FF1BD9BE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0E8-2DCA-4D4D-B830-A1871AA5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71238-14DB-41D1-9627-A355B9BF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81B24-BC97-4274-B1CE-74D49BC3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F19DD-4646-4A5E-85DA-C219CDFE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4C92A-8066-4790-A884-2F536F51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2C73B-CBB6-4A8B-9A3F-A9954A7B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71DA2-65DC-49C0-B081-40FD3165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A0FE0-1362-4DF6-A882-5892DB6F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BC3EB-7615-403B-9064-CAAF4794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F9DA2-8753-4D9E-A365-31DAD3DF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09D7D-3EE4-4823-967D-36D676E4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53E-64CD-4301-B53E-002E8F9C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D3792-FB2C-423E-9C66-6DB264A0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7F199-69D0-4EF6-BF2A-33FB2080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36983-C7CA-485A-A452-56FA5BCD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7405-3724-4A7C-BD7A-A672BB8F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DF101-9630-4609-A3CD-87AA1B66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621FE-829D-44F5-9ED1-8184EC0B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9E4CC-4CD6-46D8-8073-311F094C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E576E-E95B-4CD6-A10E-D1516529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65A91-E0E1-488F-B834-A512E4B7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300B9-3F63-4156-BC2E-0E45B575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511-38A8-4676-8DF4-F3A36BE4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5D74E-F9B1-4EDC-AC0A-EEF197F9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2FF4F-5932-4586-8D7D-6A158D88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3D877-7459-4367-8019-4CB7CB24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7CBA9-6E77-43CE-9B54-761413EA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24BC6-F55E-4E5F-AABA-209B5D57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02317-ADCD-4584-8C5F-7A3B7FC8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2EA66-2718-4E37-93F3-F3509451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25E17-8C95-47FA-80F9-86499ECC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FAA42-81BB-477E-AD5A-5FA90E6F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EE888-2E56-45D0-BD80-A5C5A9AE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DBC-3DFB-4446-BA1A-87628D5E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CDF9E-E1E5-459A-BE95-87FFBAFB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EEBEB-154F-4433-9D83-EBD21877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76C7E-6924-4E22-BA55-9158D164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34719-4E51-4739-A00A-3E817BB2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65365-1D51-41CB-8507-59BB918C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6A83F-5763-4552-90CA-EC744802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ED5A0-9388-4C85-B2FA-E4B99571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4ADA1-96D1-47F0-ACD3-11AB9DCC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2DD25-A8BE-45A4-B252-EDB89A81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0F256-2CA4-429D-9C00-BBBD662B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7C2-A63D-4AD5-AE94-13A0D175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0460E-36AC-4917-A080-3C782A85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758B3-7432-466A-AFC5-F6D25354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2B62B-D8A3-45B0-AA02-B34D07B6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ED61F-E4AC-4FAF-BA13-AFABE733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3F97B-B66C-463D-A508-6EB6D693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62F94-818F-43A9-BD21-4F1D435A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BC36A-7434-4869-8D7F-75AB0F77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32243-E5DF-40E2-B9D9-518BC51F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0830C-21C6-4F1B-9C22-ECA96CF1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1A617-1FD9-413B-92FC-0FCB23EB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B95-22F5-4ECE-9420-560046C5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2019A-EFB1-48F5-B1C9-7F193CFC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4420D-AAFF-4DFF-A709-5CB672B4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C9EC1-B0AD-4098-A70D-001A05E3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CBA81-DFB1-4E5C-9F75-80A1E3B7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9DB01-8C25-48B3-8E11-F8415888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42FB5-1109-4A32-8E1A-F7550610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A8FC6-DD1C-4ADF-912C-B12589D2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49BE-5DA8-4976-AE79-3E58B4C246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B776-94FD-4EBE-A387-7A7FC8FCA7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85C2-4BC3-4BCB-9B91-61F7501E08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4C68-EAED-42C9-AFBB-26E55AE957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3CF7-CC2F-4BF6-A6EE-1327B0E7C6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37A6-69D5-4125-9EA9-1710ED0528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4B4B-E673-499A-BDA6-23441B2BB5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B1A5-6153-4662-9E38-BF5E38AE5D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Purpose, Syntax, and Techniqu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cus atten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tablish relev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ate prior knowled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k a good science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itiate inqui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good story (narrativ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mystery (intrigu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game (challenge/puzz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 little different (novelt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 little flashy (vividnes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bout them (relevanc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chance to be successful (self-actualiza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was just thinking about…_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that leads to the question…__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 “thinking about” to other verb phrases (e.g., “listening to”, “playing with”, “wondering about”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question needs to be a science question…one that can be answered through inquiry activity, investigation, and/or experimentatio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ity – manipulating materials to learn about someth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estigation – an activity that is focused on a ques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periment – an investigation that tests relationships, such as between variab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y of these can provide evidence for answering science ques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899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levant science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s science proces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lies on inductive appro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serv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un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if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er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di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siz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king (science) ques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igning investigations and/or experi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idence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lu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broken  bits of shells in the s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and is composed of broken bits of sh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lusions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idence (Deduc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nd is made of broken sh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find bits of shells in the s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4:35:45Z</dcterms:created>
  <dc:creator>Information  Technology</dc:creator>
  <dc:description/>
  <dc:language>en-US</dc:language>
  <cp:lastModifiedBy>Information  Technology</cp:lastModifiedBy>
  <dcterms:modified xsi:type="dcterms:W3CDTF">2010-09-07T17:29:46Z</dcterms:modified>
  <cp:revision>10</cp:revision>
  <dc:subject/>
  <dc:title>Engagement</dc:title>
</cp:coreProperties>
</file>