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5977-5B67-427C-9690-83EF42B1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0B83-AB1E-4176-B01E-D468185C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8FF9-5E1A-4B70-8B3B-9BB84DDBA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FA73-DEB1-4310-BA2C-BFB77E97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20AE-47E9-4135-8857-18F059A2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9A69-033D-4235-96A0-5ABE7A433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DD99-849A-4D18-9854-219D49786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90C7-2963-4E61-9E3D-F9984C6EC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48AF-A73F-4667-837F-D8931701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13DE-DF4F-4554-8E94-1C328E72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2782-D3B7-4C4A-AF52-04EDD9E1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5067-7AC7-41DC-8774-3B400833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9C0A8-B336-4CE6-9F5D-9851646258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ving Useful Feed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Program Files\Microsoft Office\MEDIA\CAGCAT10\j0233018.wmf"/>
          <p:cNvPicPr/>
          <p:nvPr/>
        </p:nvPicPr>
        <p:blipFill>
          <a:blip r:embed="rId1"/>
          <a:stretch/>
        </p:blipFill>
        <p:spPr>
          <a:xfrm>
            <a:off x="3048120" y="3886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eedback should be about the presentation, not about the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you explained the last step of cell division, I found it difficult to understand the part about…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…I found you hard to understand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fessionalism of your appearance helped me feel that this was important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You looked good up ther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You did a really good job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eedback should be specific, not gener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paces for me to write my data on the activity page made it easier for me to stay on track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coming in dressed as a clown, you engaged my attention really well, so I paid full attention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I liked your activity pag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The presentation was really fun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eedback should be tied to known expectations, outcomes, concepts being practic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was exciting to be able to make my ow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bserva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collec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id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myself about the worm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I would have liked a more critical approach to the ethics of using of living things as part of teaching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should provide guidance for improvement, and be based on already-present strengths whenever possi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had some very strong open-ended questions such as…even more of those would have helped me think more deeply about the ideas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“You only had two open-ended questions; you should have more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“It was OK, but something to watch for is that you say ‘um’ a lot, so try to have your ideas in mind before you start talking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feedback takes deliberate and conscientious practice! For most peo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not eas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does not come natura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not the same as the way we talk to others in casual contex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not a “mixed bag” of good and b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uld only be given to people we already respect, care about and want to sup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ique the Crit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You looked nervous. Maybe you should practice more before you pres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This was just an awesome activity—really, just awesome—I mean, like, truly amaz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The simple materials you used could be found anywhere, which reinforced that science is all around 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Your equipment was really great. I think using science equipment like that will help kids wonder more about how the equipment is used in real scie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ynta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edback Synta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 you…, it helped me to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…in your lesson made me think of…in our class discuss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ponse Synta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you tell me more about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, do I understand that you’re saying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ank you for th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4:39:27Z</dcterms:created>
  <dc:creator>Information Technology</dc:creator>
  <dc:description/>
  <dc:language>en-US</dc:language>
  <cp:lastModifiedBy>Information Technology</cp:lastModifiedBy>
  <dcterms:modified xsi:type="dcterms:W3CDTF">2009-11-24T15:01:30Z</dcterms:modified>
  <cp:revision>3</cp:revision>
  <dc:subject/>
  <dc:title>Giving Useful Feedback</dc:title>
</cp:coreProperties>
</file>