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E96-C085-47AE-A3AE-55065245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AED-A737-43B4-B2B2-A3D7582E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DF5-4C1D-41A6-8AFA-6C1A5C3C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D30-0FDD-4F3F-8383-5B64730B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129-4719-46A9-9642-50F862A6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2DC-2088-4345-B96A-1766F95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1C8-F126-48A8-8ECD-3CAA734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DDF-50E1-47F7-9B14-47B02290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B19-DB78-40ED-B03B-5E3FFA21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523-5F72-4DB2-BB8C-5E23FD22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C2E-C255-40A9-B2A4-BDEB85A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940-EBF3-4A5E-B9E1-9902A146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B5A6-68A6-4C18-ACB3-97AF9776C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ing Usefu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3048120" y="3886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about the presentation, not about th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explained the last step of cell division, I found it difficult to understand the part about…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…I found you hard to understand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fessionalism of your appearance helped me feel that this was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looked good up t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did a really good job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specific, not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aces for me to write my data on the activity page made it easier for me to stay on tra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ing in dressed as a clown, you engaged my attention really well, so I paid full attenti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liked your activity pag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The presentation was really fu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tied to known expectations, outcomes, concepts being practi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exciting to be able to make my ow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l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myself about the worm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would have liked a more critical approach to the ethics of using of living things as part of teaching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hould provide guidance for improvement, and be based on already-present strengths whenever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had some very strong open-ended questions such as…even more of those would have helped me think more deeply about the idea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You only had two open-ended questions; you should have mor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It was OK, but something to watch for is that you say ‘um’ a lot, so try to have your ideas in mind before you start talking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feedback takes deliberate and conscientious practice! For mos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me natur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the same as the way we talk to others in casual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a “mixed bag” of good and b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nly be given to people we already respect, care about and want to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que the Crit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 looked nervous. Maybe you should practice more before you pres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is was just an awesome activity—really, just awesome—I mean, like, truly amaz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imple materials you used could be found anywhere, which reinforced that science is all around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r equipment was really great. I think using science equipment like that will help kids wonder more about how the equipment is used in real sci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back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you…, it helped me t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…in your lesson made me think of…in our class discus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se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me more about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, do I understand that you’re saying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 for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39:27Z</dcterms:created>
  <dc:creator>Information Technology</dc:creator>
  <dc:description/>
  <dc:language>en-US</dc:language>
  <cp:lastModifiedBy>Information Technology</cp:lastModifiedBy>
  <dcterms:modified xsi:type="dcterms:W3CDTF">2009-11-24T15:01:30Z</dcterms:modified>
  <cp:revision>3</cp:revision>
  <dc:subject/>
  <dc:title>Giving Useful Feedback</dc:title>
</cp:coreProperties>
</file>