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E64F-545C-447E-A0FA-26A8800F3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D824-70D9-468A-A525-57B378B4E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1241-8452-474F-8580-462F17D13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FB25-E170-4556-9059-0F9A3DCD4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EFEA-BBFD-469C-BE2F-E1CFA8DA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1057-0276-4CDA-8C37-1BC4D7433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394F-D057-421A-8A34-B9C5305C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40BB-4A5F-4161-A750-F6502133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9D8-7A10-4AE9-A0A5-3D85CD0FC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42BC-33B8-4F74-B192-4BF55E43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D02A-C11E-4551-9B29-EC6298A83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AFA6-960C-4432-89BD-4E77B444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D762-E5C9-4923-8AAF-A276716D5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iving Useful Feedb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C:\Program Files\Microsoft Office\MEDIA\CAGCAT10\j0233018.wmf"/>
          <p:cNvPicPr/>
          <p:nvPr/>
        </p:nvPicPr>
        <p:blipFill>
          <a:blip r:embed="rId1"/>
          <a:stretch/>
        </p:blipFill>
        <p:spPr>
          <a:xfrm>
            <a:off x="3048120" y="3886200"/>
            <a:ext cx="257472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about the presentation, not about the per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you explained the last step of cell division, I found it difficult to understand the part about…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…I found you hard to understand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rofessionalism of your appearance helped me feel that this was important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looked good up there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You did a really good job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specific, not general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paces for me to write my data on the activity page made it easier for me to stay on track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y coming in dressed as a clown, you engaged my attention really well, so I paid full attentio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liked your activity page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The presentation was really fun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eedback should be tied to known expectations, outcomes, concepts being practic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was exciting to be able to make my own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observation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collect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evide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for myself about the worm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T “I would have liked a more critical approach to the ethics of using of living things as part of teaching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should provide guidance for improvement, and be based on already-present strengths whenever possi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You had some very strong open-ended questions such as…even more of those would have helped me think more deeply about the idea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You only had two open-ended questions; you should have more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“It was OK, but something to watch for is that you say ‘um’ a lot, so try to have your ideas in mind before you start talking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General Guidel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od feedback takes deliberate and conscientious practice! For most peopl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eas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does not come naturall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the same as the way we talk to others in casual contex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is not a “mixed bag” of good and b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hould only be given to people we already respect, care about and want to suppor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itique the Crit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 looked nervous. Maybe you should practice more before you pres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is was just an awesome activity—really, just awesome—I mean, like, truly amazing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The simple materials you used could be found anywhere, which reinforced that science is all around u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alibri"/>
              </a:rPr>
              <a:t>Your equipment was really great. I think using science equipment like that will help kids wonder more about how the equipment is used in real scien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ynta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edback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hen you…, it helped me to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…in your lesson made me think of…in our class discus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sponse Syntax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an you tell me more about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, do I understand that you’re saying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 for tha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4T14:39:27Z</dcterms:created>
  <dc:creator>Information Technology</dc:creator>
  <dc:description/>
  <dc:language>en-US</dc:language>
  <cp:lastModifiedBy>Information Technology</cp:lastModifiedBy>
  <dcterms:modified xsi:type="dcterms:W3CDTF">2009-11-24T15:01:30Z</dcterms:modified>
  <cp:revision>3</cp:revision>
  <dc:subject/>
  <dc:title>Giving Useful Feedback</dc:title>
</cp:coreProperties>
</file>