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800E-B5F9-44CE-9C13-9DEFAEC97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4733-3A47-4B5A-B534-56154488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F624-90D1-480F-9349-9240BC7AE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270F-F7FA-4F25-B495-3327D6B1B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C82E-4A12-4483-87F0-A5A880614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0392-DC58-457E-BE5F-1FECAC8C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31C9-D8C1-46F0-9304-859A860D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40FF-1BFE-462B-B302-05312187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AAB6-F7C0-4CF0-BD0E-97DB0D13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46CE-0BDE-47DC-AE71-AB08E721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5CC9-62FE-4FAC-B41F-6EF343E9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E2D6-F790-43AC-9906-1BA4E74B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69D1-46F5-45DA-A611-E8CC267C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916D-7B88-41DC-AE5B-2BD9C65D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23A5-8784-4D16-BBDE-3E7D0D9D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B65A-3022-4BD7-9181-577162261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B5FE-A393-4BF4-8904-C2B8A6BEA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822EF-A8C6-423D-806B-284A59C3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FB051-AAD5-48E1-AAC1-EE42A888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5AC16-CC97-4C60-B952-1B1605E8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027A6-2F5E-4B42-A8E7-DFF707FF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274CC-4CC1-4EE1-8CFB-C350EA50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A3DD-A150-4B5E-A74B-46056BBA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444E1-3B49-4048-82C8-7D4EF10A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4F811-AB9A-4327-8CBB-E5A1029E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F69C4-2D94-4DC9-93A9-2E28F88F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8294C-4D79-4431-B1B0-06C36B54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F0904-D793-496D-AF50-E5289894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B58B5-69E8-4582-B361-D5BC6079B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E8C57-1F0E-4AA8-A2B8-1111B3BCB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240B7-DF46-4EE7-8EC2-2FAE2AEA7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CC244-0900-4AF7-A7F8-9E3B89AD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9D36E-A123-4094-BA97-C8D8FD2B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6BF7-99EF-4ADD-AE30-EB68380C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48838-18A9-43C3-9781-815D5067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D62B0-BD22-4B4D-8D82-09E5FDFC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D77AE-8073-469F-A6CF-BE8D3232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B1AB3-EEBD-4A7E-9BE1-78C07478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9E57C-3928-45A9-94C1-567DD464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9312C-1DA0-4C5A-A574-3E71E1CE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E2899-3371-4628-86CC-3806472F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E7268-CC46-46A6-A35A-1B984F9D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7DB28-926C-4935-9E8A-DF0E1D28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07C5-ABF6-4E1F-820C-3C9A9FEE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8529-154A-423D-BB1B-9F720286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8EC7-7038-42A2-B06C-E0A0B7C7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A62C-9EF2-4AAE-9A52-87E27FC9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4E6B-8A2B-4917-B8A5-B33DCE76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6C9B-3BDF-4738-BDD5-75B47334232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724B-121F-4373-85CD-915FF45C62A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AF09-7645-449D-BAE1-986B171F3A4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C2A2-C1F5-44F2-86A7-69D83318A32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youtube.com/watch?v=11BQQvVy8LI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530280"/>
            <a:ext cx="7791480" cy="12920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71600" y="2114640"/>
            <a:ext cx="630720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an we make a bubble that 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isn’t round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5472000" cy="4103640"/>
          </a:xfrm>
          <a:prstGeom prst="rect">
            <a:avLst/>
          </a:prstGeom>
          <a:ln w="0">
            <a:noFill/>
          </a:ln>
        </p:spPr>
      </p:pic>
      <p:sp>
        <p:nvSpPr>
          <p:cNvPr id="200" name="TextBox 4"/>
          <p:cNvSpPr/>
          <p:nvPr/>
        </p:nvSpPr>
        <p:spPr>
          <a:xfrm>
            <a:off x="7924680" y="14479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Constantia"/>
                <a:ea typeface="HGP明朝E"/>
              </a:rPr>
              <a:t>圓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374040" y="1371600"/>
            <a:ext cx="15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Constantia"/>
                <a:ea typeface="HGP明朝E"/>
              </a:rPr>
              <a:t>泡影 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Relate this to as many ideas from our class as you can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895120" y="1934640"/>
            <a:ext cx="57913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5E’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S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qui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mpha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aracteristics of Scie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cience Proces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ommunic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redic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ferenc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bserv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4:34:23Z</dcterms:created>
  <dc:creator>Edward Robeck</dc:creator>
  <dc:description/>
  <dc:language>en-US</dc:language>
  <cp:lastModifiedBy>Edward Robeck</cp:lastModifiedBy>
  <dcterms:modified xsi:type="dcterms:W3CDTF">2010-05-11T14:51:02Z</dcterms:modified>
  <cp:revision>2</cp:revision>
  <dc:subject/>
  <dc:title>My Favorite Bubble</dc:title>
</cp:coreProperties>
</file>