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D2C5-579C-4434-B29A-6532CD2AC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E3EB-EE3E-406A-8A9F-D8865F23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9E68-9D65-4BEA-946E-E646D899C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9C5C-DC5B-4D78-9327-7F9BBDAD2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1939F-039B-4F2C-807F-AA6FDC61D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AAAE-64F7-4928-A1BD-FF6615D1A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1DBF-0B23-4A55-8A05-164215F6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4BF8-204F-47B7-A2EC-353E2A612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8BBB-3C3B-44D6-9E6D-EE7820837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8A8C-FE4B-4C8D-98F4-B8A5A1FB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05E4-A47A-4176-B151-E5E29981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022F-FE1E-4920-B669-AE96B0778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38DA-78ED-4D45-B578-8CF953FF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E0D54-61F2-40AB-B455-5DE73997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1F373-D7BA-45B1-B330-4E3FDB6E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FFB7-EF56-42F9-B458-EE052417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62C03-327C-4E0B-A7CF-6C8EDBB0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71753-9D0F-4BED-AF30-A305C4279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2B106-112D-42F5-93ED-43DCDCF9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57A9B-1117-4469-8056-251BC961D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371E6-698E-4A3F-9ADE-331141B3B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39282-B1D8-4D2B-8B8F-644C557EC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B23D-3197-4BFF-924C-7C4CD9C07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E1A3E-083C-4D31-9BAB-EB1F5789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AA224-E63A-4C28-88E0-DF21D5A0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86947-3116-4F16-A137-92DDC312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9F1DB-ACB2-4BC8-84FA-EACC84DFC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E8684-642A-4F37-AF16-0BB3EBF9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0FC40-80D8-4E7B-BB15-EB1D352C0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FDAAA-33B3-4FD7-9BA3-64DE74A9B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00B7E-DE14-4302-834F-6FCEBA63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5EDF83-03FA-4628-9479-A2150687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2BB2D-F3B7-4798-8518-6A0EC949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9106-0555-44F0-B6BE-1EE887A00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8224E-6AF2-49F6-85D7-13F7F1516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8C413-6C99-42BF-83EB-87D25815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D249A6-4C5C-49E9-9279-D3DD5685A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4A1D2-D9EB-487A-8D86-9F5527FD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725EC-7BC9-4559-A6BE-443E7BEB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19E62-3FD0-4D71-8F68-368BE242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05A3D-ADB7-4CF6-9584-62E8655B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C2D343-A8E9-42C6-9C09-304E8B55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4DAFCA-B6BC-4269-8035-99399592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C21B-40D7-4DBA-AA75-FCF36E70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C796-A158-4862-AE3A-A93899928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52F3-834A-4125-8C86-ABB9252B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0F69-193D-45A1-A23D-C68C4881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88D9-CADF-4B16-8FB3-2004065D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C949-342A-41B8-8BD4-2D3450E4848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C042-EC79-4576-BA07-1519563B8D2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CB60-1469-411A-ACFF-596D4344246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DD873-B8C4-436A-A690-78498D3BCA5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youtube.com/watch?v=11BQQvVy8LI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530280"/>
            <a:ext cx="7791480" cy="1292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71600" y="2114640"/>
            <a:ext cx="63072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an we make a bubble that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sn’t round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472000" cy="41036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7924680" y="1447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Constantia"/>
                <a:ea typeface="HGP明朝E"/>
              </a:rPr>
              <a:t>圓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374040" y="1371600"/>
            <a:ext cx="15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Constantia"/>
                <a:ea typeface="HGP明朝E"/>
              </a:rPr>
              <a:t>泡影 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Relate this to as many ideas from our class as you can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95120" y="1934640"/>
            <a:ext cx="57913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5E’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qui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mph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racteristics of Sci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ience Proce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mmunic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edi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feren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bserv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4:34:23Z</dcterms:created>
  <dc:creator>Edward Robeck</dc:creator>
  <dc:description/>
  <dc:language>en-US</dc:language>
  <cp:lastModifiedBy>Edward Robeck</cp:lastModifiedBy>
  <dcterms:modified xsi:type="dcterms:W3CDTF">2010-05-11T14:51:02Z</dcterms:modified>
  <cp:revision>2</cp:revision>
  <dc:subject/>
  <dc:title>My Favorite Bubble</dc:title>
</cp:coreProperties>
</file>