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F0D-0DBD-47CC-A1E1-96C110D00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0270-470A-4E67-8422-7AB2646D4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6015-76BA-46C8-9783-1405B569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5E009-0228-4C21-9830-6C51E167B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6D276-D3E7-42BD-B569-6DDD4987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C2A37-0482-4068-AA07-0FC0CAB39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91956-AEDE-405F-BCCD-24D6D6176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98728-011A-49E7-9F2C-DFB26A0A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43648-DBC6-4009-9466-C4CA04DE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C9FA-7192-49DA-822A-B437BC37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0D34B-4A31-4410-9AA5-5C458446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7E8-8817-479B-AFA1-6E8939351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A653-CDE0-42C4-BF4C-FDA2D030D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AF31-9E02-4F7E-BAA5-24A0575B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88E8D-91F7-4949-B306-2B1BC036E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92FF-EB2B-4556-A78F-D3B1C8114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9DB0-39C1-4600-A90F-B5519D50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D3F09-FBA8-4113-A908-35802142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B5D51-16A3-4C29-89C3-8D366455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2674-C217-43E6-BC20-5903A03C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C2D4C-0FD5-488A-BA70-81509D26F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53FE5-0B68-4E56-97A7-A1A32124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5A8-A752-4E02-8E24-55120F03E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F9E81-4ABE-4A5B-BBF7-5D24BDDF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FDE6E-9FCE-4496-8B17-BB3141BB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551D5C-14B5-44FC-9ACB-25A67475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CC84E-EB1E-4964-A174-D140EF8B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A10EC-09F8-447A-9FE0-147FA212E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710421-4E1A-4BCD-A382-CD2650C6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AC3CA-E718-4859-915E-DFF4A0BD5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FCA9C-F027-489F-A94A-6C48718F5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B1292-86AA-4A1E-AEB3-45915665B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AC7E8-F78A-4B8A-A900-45CDEA74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7EE-D35C-4E0A-9F5B-9E9FED19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8030D-74CA-40C0-8D1B-4C64E6BC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76DCC-F107-4316-A7B1-988976D2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A052B-7C71-4989-8011-1E00EDE5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60BB1-FEEC-46F7-9CE1-40B53116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608A2-6672-4045-87FC-96BDE856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41C03-E4A7-4E0F-B520-6C85ED26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8F341-CFB7-4B81-AC6B-4A2860AB7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04606-F48D-474B-B68D-170A9B184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3AB4-2BEB-40C6-B1B8-A09A38C2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0141-A253-410F-B6A3-8216BCA1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A4A-C2DB-496D-B4F9-024EB408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62B4-8586-4BB9-994C-325593954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5658-B609-472C-AC83-0B8AE89E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7A6-AB9B-4FE9-8E92-0431EF58B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5E8A-B011-41C9-A4AA-94BB31D2332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C749-8104-4188-B2CF-175DF0F4A36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F52F-FE4C-4576-B6D2-F4C53E2478F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7FC2-E837-4B2D-8256-DDA755D4479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youtube.com/watch?v=11BQQvVy8LI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603360" y="530280"/>
            <a:ext cx="7791480" cy="12920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371600" y="2114640"/>
            <a:ext cx="630720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066680"/>
            <a:ext cx="9144000" cy="1067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Can we make a bubble that </a:t>
            </a:r>
            <a:br>
              <a:rPr sz="4500"/>
            </a:b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isn’t round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5472000" cy="41036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7924680" y="144792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圓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374040" y="1371600"/>
            <a:ext cx="151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200" spc="-1" strike="noStrike">
                <a:solidFill>
                  <a:srgbClr val="000000"/>
                </a:solidFill>
                <a:latin typeface="Constantia"/>
                <a:ea typeface="HGP明朝E"/>
              </a:rPr>
              <a:t>泡影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late this to as many ideas from our class as you can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95120" y="1934640"/>
            <a:ext cx="579132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5E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SO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Emp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haracteristics of Scien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cience Proces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redic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Inferenc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Observ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4:34:23Z</dcterms:created>
  <dc:creator>Edward Robeck</dc:creator>
  <dc:description/>
  <dc:language>en-US</dc:language>
  <cp:lastModifiedBy>Edward Robeck</cp:lastModifiedBy>
  <dcterms:modified xsi:type="dcterms:W3CDTF">2010-05-11T14:51:02Z</dcterms:modified>
  <cp:revision>2</cp:revision>
  <dc:subject/>
  <dc:title>My Favorite Bubble</dc:title>
</cp:coreProperties>
</file>