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C4E-7752-434F-A6C7-9B71BA35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1D2-97C1-4F61-92BD-595052E2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B47-9406-43B1-A9CC-3D094935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951-8ED0-4D70-A772-EBDEA1ED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5860-D2BA-487B-BDB8-1EF0250B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4667-2333-48BA-AB55-CF5CD31A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66BD-FB6D-4354-94CE-9058C46A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A308-0915-4049-B1CB-2DB7DBC0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0826-B07A-4E21-8ACE-412DD300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A11D-0F87-4C48-BE43-A4706D81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97E7-587D-4730-8705-4CE584E5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402-EED4-4B27-A251-8B218997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71EA-BDA0-45E8-A8F2-DD7F3008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4E58-E5B2-4116-8600-67E10CB5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1ED6-F1A0-426F-9DF2-A0553AF0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01D0-9F81-4223-B71B-6C326C4B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09EC-0350-46E2-9E5A-B30BA140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3F39-A3C1-48BB-937C-FAA2573E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A6E52-A0EA-4E39-80A9-97805A73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F901A-7125-4000-B95B-927FFAFC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0DD22-4762-4DAB-94E5-4387DCD3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D3DAB-07E2-4F16-A6BC-4E13CDFF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F7C-E639-4197-AFA0-85A28AF0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0BB9E-6C32-4B67-9AD1-1FC138F5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9109D-B012-4456-933F-73706D4A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9569A-C6CC-4026-A5AC-0A51A3D2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5E42-5171-4490-9920-2B9F4B0A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85817-A0FD-4EA8-8A54-8455DE0C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395C1-3A36-4527-81B8-B7D93677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7F02-B92E-4176-8218-D1F412A5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BE363-E69B-4E31-BB35-5CE262C8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84E06-BD95-4166-A360-B0461273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31EF-ADE7-43A1-99A4-765A3B39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28C-8128-4A0B-A607-0B73B28C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DF38E-B8CC-496A-87E5-BDFC923F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473B8-ED69-4CAF-A92B-41284315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B410B-B89A-48AB-ABD2-0F1F0217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A14D7-B54B-4777-9C15-0CF7D6A8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F1DF8-13DA-4E74-9802-31426AF6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FE81B-5FCD-4749-A871-E114C98A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48778-8693-4AF5-A05D-CA8AB6F4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DC67F-76BC-4427-B9AC-8C3D0F22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C3BD2-F9DA-4424-AAD1-30BBCD34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F3C-7D04-4C7B-80C9-AD0D006B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141-709E-4092-8728-426108D0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68A-5802-423F-8C42-361F034A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01F-4613-42C4-82FC-83D67981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459-4740-4E1F-A4AA-290D36A3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E825-5E53-4F6C-B1C1-AC2810E55C5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108E-21EB-44B1-AA54-50173CD514E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0090-533A-4A24-8718-BB2734C4E3C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5D5D-FB4B-491D-824B-0F2B740B19A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youtube.com/watch?v=11BQQvVy8LI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530280"/>
            <a:ext cx="7791480" cy="1292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2114640"/>
            <a:ext cx="6307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an we make a bubble that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sn’t round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472000" cy="41036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7924680" y="1447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Constantia"/>
                <a:ea typeface="HGP明朝E"/>
              </a:rPr>
              <a:t>圓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374040" y="1371600"/>
            <a:ext cx="15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Constantia"/>
                <a:ea typeface="HGP明朝E"/>
              </a:rPr>
              <a:t>泡影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late this to as many ideas from our class as you can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95120" y="1934640"/>
            <a:ext cx="57913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E’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qui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ph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racteristics of Sc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ce Proc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edi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feren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bserv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4:34:23Z</dcterms:created>
  <dc:creator>Edward Robeck</dc:creator>
  <dc:description/>
  <dc:language>en-US</dc:language>
  <cp:lastModifiedBy>Edward Robeck</cp:lastModifiedBy>
  <dcterms:modified xsi:type="dcterms:W3CDTF">2010-05-11T14:51:02Z</dcterms:modified>
  <cp:revision>2</cp:revision>
  <dc:subject/>
  <dc:title>My Favorite Bubble</dc:title>
</cp:coreProperties>
</file>