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166-339C-4FDA-9CD3-813EF359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A00-94C8-4874-9360-ABC781D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8FC-7913-4D91-AE50-43D706A6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5DF-A838-44B3-B753-CE975C85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9F32-1809-4205-8BCC-BA8F8CB0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E4D-C545-4DD2-9A76-CE9A01E5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1AF3-1E3F-4414-B540-6B792CBB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901C-24FA-454E-B5E3-D452A5D1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704A-5504-4A30-9454-E8E013DC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3C9-708D-4048-9513-22077D9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7905-12E5-4E2F-B604-8BADDFC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6B4-A9E4-4557-AD2D-DB96849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59B7-356E-4B69-938B-A5661AD0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BB06-CBB9-48E6-A37B-DACFDE2D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4880-2E68-4A5B-BDB5-B23C490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452D-BA23-480C-9916-6867E014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D07D-6732-4570-A8CE-8EFE869F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C9C1-042B-4497-B4D6-22A6A764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869B-F90D-4228-8EE7-A4D243B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9E0B-594C-4050-9482-5046D13D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7F51-7E2C-402E-B9CA-EE61A00E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C6CF-E063-4171-95C4-069C885D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06C-0CBD-4ED0-817F-0C0D853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C3E7-CFB1-43CE-BEB2-73E3C12C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D4CE-3B6B-4F19-B430-124F29B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3C8B-77E7-49D4-BB13-F9755488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E08C-4C6F-4C6F-AD73-97E82A2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809F-72D2-4BB8-8104-17374A31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1FD2-5CFF-4C11-B30B-16A8C3C4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135D-B8D2-48C6-A777-37070DD0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F422-6C7A-426B-B583-196E0272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6E0F-7964-4B04-B5D1-19B5E08B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F780-FA7B-4A50-9C30-87A72D2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8B4-F6BA-46E2-95E9-DAE40E94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A3DA-C8D9-40D5-95BA-B08F1E3D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D9C9-36A9-4D1C-BC4E-47C15E2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FA6F-08CF-4F5C-B6CE-391CEEAC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57E8-E393-43F8-8319-CD2DBBEB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FCE4-255E-4848-9DD5-8E1D642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1E19-7F2F-40AE-8AA9-07EDC175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FB48-2394-4B81-9D4E-FD07310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2136-85B7-400B-86EB-09119B14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79B5-A0DD-4AF1-BF41-281460E3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02B6-06C6-4787-B749-B9D115F9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35D-BEFF-4AD6-8C8E-72EEE542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76426-89BD-4B96-B766-7BBAE825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B956-3288-4CD5-935A-04DA6CD2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FC93-ABA1-474F-BA1E-568CBB61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26A5F-A7F1-4151-B305-2BC2852C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C1B80-E0C2-4559-A4EF-50B26C6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EE674-B2AE-4CF1-AA0B-0B0CCBF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2C60-796B-4455-865D-CB852E1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1DB35-6186-40BF-A384-498C7CA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9604-806E-4FD6-A780-0FBB7299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6803-028B-4A2F-A18F-0184E782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C21-1900-42F9-8221-60933AE0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BB0F-819F-4237-95F7-3CDBBA84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733-7D12-48A5-B4DB-7C7F9AAE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A54-5CAE-4ED5-A2FE-D8C2BCF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A17-F736-40B0-87AB-5ED97AA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02F-2D51-46ED-B2BD-25B2E02DA0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1398-734B-4B9F-99EE-E4621A9E2D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BFEC-F0D8-4C72-AB2E-6917D7DF4A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A1F7-A114-47E2-91DD-3EA289AFDB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333A-8418-4CF0-9C2E-3DF2CF5544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ds to ongoing invest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explanations are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malous observations cannot be disregar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digm shifts may occur (Kuh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efits from scientific 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y attention to what other people have already do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ose your ideas to testing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milate the evidenc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enly communicate ideas and tests to oth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y fair: Act with scientific integrit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do we mean by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gi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ysticis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ch of these has a set of core beliefs and practices that define it and distinguish it from other “worldviews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ying the game…a metaph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5" descr="C:\Documents and Settings\ecrobeck\Local Settings\Temporary Internet Files\Content.IE5\RKGQ0G17\MP900422165[1].jpg"/>
          <p:cNvPicPr/>
          <p:nvPr/>
        </p:nvPicPr>
        <p:blipFill>
          <a:blip r:embed="rId1"/>
          <a:stretch/>
        </p:blipFill>
        <p:spPr>
          <a:xfrm>
            <a:off x="343224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ecrobeck\Local Settings\Temporary Internet Files\Content.IE5\EOYNERVY\MC900318752[1].wmf"/>
          <p:cNvPicPr/>
          <p:nvPr/>
        </p:nvPicPr>
        <p:blipFill>
          <a:blip r:embed="rId2"/>
          <a:stretch/>
        </p:blipFill>
        <p:spPr>
          <a:xfrm>
            <a:off x="6248520" y="1905120"/>
            <a:ext cx="1430280" cy="182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:\Documents and Settings\ecrobeck\Local Settings\Temporary Internet Files\Content.IE5\EOYNERVY\MC900233050[1].wmf"/>
          <p:cNvPicPr/>
          <p:nvPr/>
        </p:nvPicPr>
        <p:blipFill>
          <a:blip r:embed="rId3"/>
          <a:stretch/>
        </p:blipFill>
        <p:spPr>
          <a:xfrm>
            <a:off x="3048120" y="4648320"/>
            <a:ext cx="2462040" cy="17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Documents and Settings\ecrobeck\Local Settings\Temporary Internet Files\Content.IE5\O3CJTFRG\MC900054050[1].wmf"/>
          <p:cNvPicPr/>
          <p:nvPr/>
        </p:nvPicPr>
        <p:blipFill>
          <a:blip r:embed="rId4"/>
          <a:stretch/>
        </p:blipFill>
        <p:spPr>
          <a:xfrm>
            <a:off x="762120" y="3733920"/>
            <a:ext cx="163332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1371600" y="190512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Program Files\Microsoft Office\MEDIA\CAGCAT10\j0298653.wmf"/>
          <p:cNvPicPr/>
          <p:nvPr/>
        </p:nvPicPr>
        <p:blipFill>
          <a:blip r:embed="rId6"/>
          <a:stretch/>
        </p:blipFill>
        <p:spPr>
          <a:xfrm>
            <a:off x="5943600" y="4572000"/>
            <a:ext cx="2946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600200" y="317520"/>
            <a:ext cx="64008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es on the natural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opposed to…??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does not accept explanations based on supernatural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vine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im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ystic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lies on physical causes that posit interactions among fundamental entities; matter, energy,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s to explain the natural wor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s to produce increasingly accurate explanations for how the world work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lways more ques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ledge is always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s testable ide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arate assumptions from ideas that can be tes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auses fo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uniform cha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velop tests that can confirm or refu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xenolobs are green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blue xenolob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es on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jects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NOT about voting (e.g., “most scientists believe…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be auditable—if you want to check, can you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(usually) be consistent with established theory, since those theories are also based on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raordinary claims require extraordinary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simony – Occam’s raz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 involves the scientific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cessity to publis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29:19Z</dcterms:created>
  <dc:creator>Information  Technology</dc:creator>
  <dc:description/>
  <dc:language>en-US</dc:language>
  <cp:lastModifiedBy>Information  Technology</cp:lastModifiedBy>
  <dcterms:modified xsi:type="dcterms:W3CDTF">2010-10-12T17:46:12Z</dcterms:modified>
  <cp:revision>31</cp:revision>
  <dc:subject/>
  <dc:title>Slide 1</dc:title>
</cp:coreProperties>
</file>