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B826-3CC7-4001-99D3-BB4D64709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2B29-71EC-41AA-99D6-FDB113A74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65AA-F2E0-4D28-9BF9-EF588517C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66C2-07A2-40F0-B219-59268959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31F78-94C3-4845-9815-46A60345F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D109-8A66-4050-857D-B3E7203F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80522-E587-4A61-AB1B-304F1675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78258-36AE-40D3-8120-1B042D2D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2909-FF28-4727-99D5-4332586BD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3138-100D-413A-B974-43F4A9EF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40D0-97D1-4B65-8D3B-66F49DC5B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A53-23A5-496A-96DD-4BC37B0FB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268C-833F-495A-B152-69A7506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FD39-D29B-4CC3-AE8D-1023447F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3D64B-8400-4D59-A694-04D53FF96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461FE-C39F-42F8-B89E-62840056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25353-01AC-45A6-9C38-FDDC04C49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32C1B-D7B7-4EAF-8EDF-CA5F7FB6B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B9997-4BBA-4B07-A1F0-6E6D5392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5633A4-7245-439F-8B59-B3490F7F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57141-0FFD-4AA5-BF5A-BE7EDDFB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02452-1C08-4F8C-9C78-698F9728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CD1-DE55-41DA-883F-90979090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7C1BF6-5FE8-4112-9607-527D639AF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BD641-9A88-4017-AEB7-6BDB3B7E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DC52E-4757-4C18-95C1-55FADEB9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102BC-2C26-412D-93E4-46D7FFD4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26450-E0D4-42D8-9129-3C053550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6DDCC-7C82-496F-A6E2-179F86969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AB539-2ED0-49AE-8EAC-A84345A6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FFB0F-547A-4E9E-8F24-2BFEF686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11FB66-094E-4863-A230-7C694B23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D29BF-D022-466B-8289-A4262AFCE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5D6D-B03B-43CD-93E9-A975A6B8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7E68-C730-41E0-88E0-2D8BFB17E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CBB8F-6904-4948-986A-9DCE9B23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C4C8-315C-4192-8F2A-AEFA1626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411D9-9311-446C-AF32-D6D2815B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C19F6-4803-47BC-8DDD-3BC3D77C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AF860-9BA8-4A79-819E-5458B89B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E79E2-0AA6-4737-893F-DCCA9AC8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BCA94-45EC-4DF3-8C63-0D80E261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FBF6D-1013-4903-B67E-AE150C3E3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9B688-FF43-4470-99C3-3F5C9422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CE51-1E60-4EB5-8755-65C232F6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2DC71-8A84-4CAF-8E2E-33ACC73D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4FBC8-FCA3-4E13-9704-D9D72762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C1341-AC5E-494F-83AB-E88D00A4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9783C-B5EE-4C12-83CD-454B90B5E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801C4-98AD-46A5-B06E-8B360BD1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11078-7FDF-465F-A4AC-A488AF37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48743-C695-4B1C-8D46-6EC07C7D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22C74-D7E2-48FD-B364-FFF276A4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79FA5-CF87-477B-9755-175B5EBA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1971B2-1DF0-489D-81D2-52909F09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EEFC-DEEA-4C16-8158-4C76C311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F39DB-DED9-46B7-A3F7-E41317340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B823-D32C-4460-B510-F815462F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8FF-62A4-4566-8FB8-60E88367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48D7-434B-4A21-B232-F05E5F7C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E1D9-6A83-4FF9-A41A-9AA116B55FF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68F0-D3FD-4196-8BAB-EE2A88ED6E1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AA7F-F270-431C-B3DB-36FB1F1C3BA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2924-88DA-49AA-9AF4-22EF6F0DAAC9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51AE8-C216-4BE8-82B2-62A10E760900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ds to ongoing invest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explanations are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malous observations cannot be disregard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adigm shifts may occur (Kuh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efits from scientific 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y attention to what other people have already do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pose your ideas to testing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similate the evidenc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enly communicate ideas and tests to other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y fair: Act with scientific integrit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do we mean by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gic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g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ysticis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ch of these has a set of core beliefs and practices that define it and distinguish it from other “worldviews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aying the game…a metapho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3" name="Picture 5" descr="C:\Documents and Settings\ecrobeck\Local Settings\Temporary Internet Files\Content.IE5\RKGQ0G17\MP900422165[1].jpg"/>
          <p:cNvPicPr/>
          <p:nvPr/>
        </p:nvPicPr>
        <p:blipFill>
          <a:blip r:embed="rId1"/>
          <a:stretch/>
        </p:blipFill>
        <p:spPr>
          <a:xfrm>
            <a:off x="3432240" y="1752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:\Documents and Settings\ecrobeck\Local Settings\Temporary Internet Files\Content.IE5\EOYNERVY\MC900318752[1].wmf"/>
          <p:cNvPicPr/>
          <p:nvPr/>
        </p:nvPicPr>
        <p:blipFill>
          <a:blip r:embed="rId2"/>
          <a:stretch/>
        </p:blipFill>
        <p:spPr>
          <a:xfrm>
            <a:off x="6248520" y="1905120"/>
            <a:ext cx="1430280" cy="182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C:\Documents and Settings\ecrobeck\Local Settings\Temporary Internet Files\Content.IE5\EOYNERVY\MC900233050[1].wmf"/>
          <p:cNvPicPr/>
          <p:nvPr/>
        </p:nvPicPr>
        <p:blipFill>
          <a:blip r:embed="rId3"/>
          <a:stretch/>
        </p:blipFill>
        <p:spPr>
          <a:xfrm>
            <a:off x="3048120" y="4648320"/>
            <a:ext cx="2462040" cy="1776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C:\Documents and Settings\ecrobeck\Local Settings\Temporary Internet Files\Content.IE5\O3CJTFRG\MC900054050[1].wmf"/>
          <p:cNvPicPr/>
          <p:nvPr/>
        </p:nvPicPr>
        <p:blipFill>
          <a:blip r:embed="rId4"/>
          <a:stretch/>
        </p:blipFill>
        <p:spPr>
          <a:xfrm>
            <a:off x="762120" y="3733920"/>
            <a:ext cx="1633320" cy="259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C:\Program Files\Microsoft Office\MEDIA\CAGCAT10\j0285698.wmf"/>
          <p:cNvPicPr/>
          <p:nvPr/>
        </p:nvPicPr>
        <p:blipFill>
          <a:blip r:embed="rId5"/>
          <a:stretch/>
        </p:blipFill>
        <p:spPr>
          <a:xfrm>
            <a:off x="1371600" y="1905120"/>
            <a:ext cx="1706400" cy="1823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C:\Program Files\Microsoft Office\MEDIA\CAGCAT10\j0298653.wmf"/>
          <p:cNvPicPr/>
          <p:nvPr/>
        </p:nvPicPr>
        <p:blipFill>
          <a:blip r:embed="rId6"/>
          <a:stretch/>
        </p:blipFill>
        <p:spPr>
          <a:xfrm>
            <a:off x="5943600" y="4572000"/>
            <a:ext cx="2946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600200" y="317520"/>
            <a:ext cx="64008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cuses on the natural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opposed to…??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does not accept explanations based on supernatural cau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vine Interven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im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ystic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lies on physical causes that posit interactions among fundamental entities; matter, energy,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s to explain the natural wor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orks to produce increasingly accurate explanations for how the world work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always more ques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nowledge is always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s testable ide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parate assumptions from ideas that can be test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hysical causes fo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uniform chan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velop tests that can confirm or refu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xenolobs are green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re is no blue xenolob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es on Evid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jects author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NOT about voting (e.g., “most scientists believe…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be auditable—if you want to check, can you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(usually) be consistent with established theory, since those theories are also based on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raordinary claims require extraordinary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simony – Occam’s raz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 involves the scientific commun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cessity to publish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29:19Z</dcterms:created>
  <dc:creator>Information  Technology</dc:creator>
  <dc:description/>
  <dc:language>en-US</dc:language>
  <cp:lastModifiedBy>Information  Technology</cp:lastModifiedBy>
  <dcterms:modified xsi:type="dcterms:W3CDTF">2010-10-12T17:46:12Z</dcterms:modified>
  <cp:revision>31</cp:revision>
  <dc:subject/>
  <dc:title>Slide 1</dc:title>
</cp:coreProperties>
</file>