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ABC5-A287-4C84-8E8F-3B148316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244E-630F-430A-BF8F-302FEBE8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6E8A-1BA5-416B-8562-9A89FC9A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D207-8515-4D55-8A96-F39965E7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B0EE-83F9-4AA8-B8F0-BF1EBD02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C67A9-6CE1-40A0-A48F-BDDB1CEB2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5D07-F663-41E3-AE3C-0A577F3C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E5426-A797-42C8-8CF1-3398B17F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BBE7E-221E-4F00-82A1-BB005F65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DB955-3276-4F81-B744-8641A69D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8C720-5AEB-4D4F-A040-56EFC186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7F35-5407-488F-8868-8B675D6F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F333B-583E-4341-A0F9-35EEFF182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88A9-9E87-4C40-A9B9-836DF464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512C9-869F-4162-BE0C-BFAF05E1C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507C1-228F-4D5E-8AA9-A7F17F598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30A5-1B44-4D8C-9E55-DA8CB8A50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B1B47-29A4-4590-B36F-2BE71C3A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5E087-E8D3-4BC6-9380-2EC565395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50D01D-942C-4549-8690-2DA7A01E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B43B9-9614-435F-912F-D5EA05B3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3696D6-8EEB-419C-9D1B-53A18AFBD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3FB8-2D0A-4DB3-8961-B7D0C9CC5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412D7-1B19-47D1-AE1B-626BD8A2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8FDD2-B32B-4E4A-8BC4-3A831B0D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5E226-2D77-4AF6-87E7-FC63002B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FFE84-6C11-4674-8555-6CB84AAE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0F3663-D810-4B9B-B6B2-97DE524D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B3AA2-3660-4326-BBE3-DD74C4206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8A997-DA55-43AA-9786-167DF755A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99AC-6D8C-473D-A677-752C88B3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FC2B-1B1B-41FE-9615-7F89849BD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DDC76-A4D3-4769-8808-9EE5D6A82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E1BA-B073-4CF0-B703-8B9B10CFB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D224E-8098-4FC0-8864-465C8695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29E7B-B1CE-4624-97C1-A3B2F68A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3F11F-FB61-49FC-A74D-2CE9078DA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13A39-E2F7-4712-9641-0AA6FA04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3760F-390A-4C8C-A9B5-80B18FB7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E55A2-38ED-4520-8FC2-367CE5FB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D1794C-E6BB-472E-B929-5DAA498F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D2E85-5A23-4E39-A602-F35385C6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0C224-5BCA-4344-9390-2B2015E49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1613C-1C82-4220-B570-D8B42CB30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14CD-8ED6-4BB4-A367-E6038E86C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B87F2-A431-4E64-B921-0DEE928FE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672F9-B30F-4D1C-8E64-FDF63FEB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AEAC08-083A-4003-8A42-439855BD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E230F-E421-4CA0-A2CB-289B0E69E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69755-6C80-4992-8180-8FE47B95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33860-4275-4D44-A11B-656F6719D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F2B93-80B5-44E4-BC3B-E9F1F070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1D5C4-A942-4C41-87D7-018529ECE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37C982-4FF7-4065-A35E-B8ABE4174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76EAE-F2DE-43D8-930C-ECD8FAAA7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4A95-FC87-4432-BF84-177B8E030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A2409-AD16-4858-B757-B1617F0D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BFB-FDDD-4AF1-999E-2FA3E1EE1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A916-7862-44D5-8A70-3C65410A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16D69-DE6B-47D5-BA8C-BB2DEAA6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4BCF-4D55-44C6-900A-C29FF1ABD2F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F9E2C-867F-48F0-ACE1-1162E6F0F3BF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0D17-FCCC-4B58-9D34-502BC5C6BA8A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2FF58-D24F-4E14-B806-0B212A65E005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1ABF5-21A8-41CA-8D8F-0F4FA7D96864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696464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Leads to ongoing investigatio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ll explanations are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nomalous observations cannot be disregard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adigm shifts may occur (Kuhn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enefits from scientific behavior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y attention to what other people have already don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pose your ideas to testing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similate the evidence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Openly communicate ideas and tests to others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lay fair: Act with scientific integrity.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What do we mean by…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gic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gion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ysticism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?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Each of these has a set of core beliefs and practices that define it and distinguish it from other “worldviews”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Playing the game…a metaphor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33" name="Picture 5" descr="C:\Documents and Settings\ecrobeck\Local Settings\Temporary Internet Files\Content.IE5\RKGQ0G17\MP900422165[1].jpg"/>
          <p:cNvPicPr/>
          <p:nvPr/>
        </p:nvPicPr>
        <p:blipFill>
          <a:blip r:embed="rId1"/>
          <a:stretch/>
        </p:blipFill>
        <p:spPr>
          <a:xfrm>
            <a:off x="3432240" y="175248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9" descr="C:\Documents and Settings\ecrobeck\Local Settings\Temporary Internet Files\Content.IE5\EOYNERVY\MC900318752[1].wmf"/>
          <p:cNvPicPr/>
          <p:nvPr/>
        </p:nvPicPr>
        <p:blipFill>
          <a:blip r:embed="rId2"/>
          <a:stretch/>
        </p:blipFill>
        <p:spPr>
          <a:xfrm>
            <a:off x="6248520" y="1905120"/>
            <a:ext cx="1430280" cy="1823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1" descr="C:\Documents and Settings\ecrobeck\Local Settings\Temporary Internet Files\Content.IE5\EOYNERVY\MC900233050[1].wmf"/>
          <p:cNvPicPr/>
          <p:nvPr/>
        </p:nvPicPr>
        <p:blipFill>
          <a:blip r:embed="rId3"/>
          <a:stretch/>
        </p:blipFill>
        <p:spPr>
          <a:xfrm>
            <a:off x="3048120" y="4648320"/>
            <a:ext cx="2462040" cy="1776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2" descr="C:\Documents and Settings\ecrobeck\Local Settings\Temporary Internet Files\Content.IE5\O3CJTFRG\MC900054050[1].wmf"/>
          <p:cNvPicPr/>
          <p:nvPr/>
        </p:nvPicPr>
        <p:blipFill>
          <a:blip r:embed="rId4"/>
          <a:stretch/>
        </p:blipFill>
        <p:spPr>
          <a:xfrm>
            <a:off x="762120" y="3733920"/>
            <a:ext cx="1633320" cy="2592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5" descr="C:\Program Files\Microsoft Office\MEDIA\CAGCAT10\j0285698.wmf"/>
          <p:cNvPicPr/>
          <p:nvPr/>
        </p:nvPicPr>
        <p:blipFill>
          <a:blip r:embed="rId5"/>
          <a:stretch/>
        </p:blipFill>
        <p:spPr>
          <a:xfrm>
            <a:off x="1371600" y="1905120"/>
            <a:ext cx="1706400" cy="1823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6" descr="C:\Program Files\Microsoft Office\MEDIA\CAGCAT10\j0298653.wmf"/>
          <p:cNvPicPr/>
          <p:nvPr/>
        </p:nvPicPr>
        <p:blipFill>
          <a:blip r:embed="rId6"/>
          <a:stretch/>
        </p:blipFill>
        <p:spPr>
          <a:xfrm>
            <a:off x="5943600" y="4572000"/>
            <a:ext cx="29462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pic>
        <p:nvPicPr>
          <p:cNvPr id="240" name="Picture 2" descr=""/>
          <p:cNvPicPr/>
          <p:nvPr/>
        </p:nvPicPr>
        <p:blipFill>
          <a:blip r:embed="rId1"/>
          <a:stretch/>
        </p:blipFill>
        <p:spPr>
          <a:xfrm>
            <a:off x="1600200" y="317520"/>
            <a:ext cx="6400800" cy="654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cuses on the natural world.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As opposed to…??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does not accept explanations based on supernatural caus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agic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Divine Intervention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nim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Mysticism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lies on physical causes that posit interactions among fundamental entities; matter, energy, tim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Aims to explain the natural worl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Works to produce increasingly accurate explanations for how the world work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here are always more question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Knowledge is always tentativ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Uses testable idea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eparate assumptions from ideas that can be teste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Physical causes for events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Law of uniform change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Develop tests that can confirm or refut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ll xenolobs are green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374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There is no blue xenolob”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Relies on Evidence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cience rejects authority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Is NOT about voting (e.g., “most scientists believe…”)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be auditable—if you want to check, can you?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vidence must (usually) be consistent with established theory, since those theories are also based on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Extraordinary claims require extraordinary evidence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arsimony – Occam’s razor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Nature of Science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cience involves the scientific community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Peer review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Replica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ribution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374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Necessity to publish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7T14:29:19Z</dcterms:created>
  <dc:creator>Information  Technology</dc:creator>
  <dc:description/>
  <dc:language>en-US</dc:language>
  <cp:lastModifiedBy>Information  Technology</cp:lastModifiedBy>
  <dcterms:modified xsi:type="dcterms:W3CDTF">2010-10-12T17:46:12Z</dcterms:modified>
  <cp:revision>31</cp:revision>
  <dc:subject/>
  <dc:title>Slide 1</dc:title>
</cp:coreProperties>
</file>