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778F-91B2-49B6-A054-B29F2312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CBB-FAC8-44D1-97A4-CB67721C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AD7B-1DF0-4371-B288-F70BB7FC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BE0-F2D1-4C6B-8FC2-397D6758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D9F5-CBE3-4A98-81BB-A6938EA7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1BA9-F14E-4AF6-AF05-BA43FD5D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D4D1-7DF8-4C15-AD97-0BEB6D7C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99DE-492D-4A9A-B894-222D182C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2F82-7BDE-4D66-8DAE-418CDD00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0543-302A-4366-8F4F-053826BF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7E79-0AB7-497D-BE85-300F9A8F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96EF-2650-414A-ADB3-DF94D9FD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77A1-9682-4BF1-A8D4-C2D1C075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30D3-B2C7-40A8-934A-D964D1DD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B095-DE92-4AA8-992B-74620AE4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C637-B26B-43E8-91D8-DB67AE46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1F51-2BD2-498C-9260-C9DE2E08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6B52B-37A4-4EE4-AEF5-63218691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8EDAD-93F1-4EFC-82CB-BED03FCD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F4E85-81B7-441A-A76D-F27A64CF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F1A29-F6AD-4629-91CA-E8B064F5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C98DF-61C1-463D-842F-6DF4F57B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7A5E-8206-4105-A10A-32D17436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06120-4339-40CC-BB2E-C3CAC893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6369D-2F14-4799-B41D-FB0F05AC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6B17E-F2B7-45D2-82D9-83776FCE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DA16C-C9E3-46CC-8748-1C98DCB0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721DB-9E74-483D-BD94-AE469CA4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9DFA6-D95C-498B-BAA3-D8A2C278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AE0C1-836F-4D66-9AAF-5252822A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E62E2-0570-42F5-8AE8-3E36C3EB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EA1ED-8749-4C47-96C9-BEA98834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B2215-736A-4ADD-BA0B-7599440D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9E5C-98CE-4FBD-9EBD-0EB0CDCE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B43C3-C6AE-49DF-A8A2-B859143C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4AD94-B770-459B-B492-30D345D7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8452C-D2F4-475B-B12C-98E78D33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92DBB-23A2-4CF0-B8BB-68E8A738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7CABE-BE10-48D8-85EC-8DBFC26C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FE46A-9571-4217-85B8-DB5D5760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03114-4A5D-4A63-89D7-A4178873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CD35C-6FD9-49E8-A174-041A09EB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EDB53-ACE9-47AD-AFF5-7326056D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166E2-4FAA-4048-88BB-3F540B35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4BFD-D60D-49CF-9440-76264C16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ECD4E-0469-4A80-A8FA-EE7E0BBB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1753A-2C6B-4023-875D-116F8665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604DE-22BD-4EA6-B43E-C2FA9788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511E0-FA00-43F7-934C-B357A520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AF05D-57B5-4722-9A94-2EEA587F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90108-7B46-49C0-A1AB-52C31F53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43570-0517-46D8-B4EB-C3B68392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BF30E-8E36-4668-8DD2-95121192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1E283-E4DE-4442-92D5-0EAFA734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AAA51-A81A-4756-B8E3-A107910D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3890-6CBB-4BD4-8446-0E1B29CF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F0CE6-EB5D-468F-AA3C-C57E37AB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5DDD-4BDA-4073-B6A8-C95D36DB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3DD7-3081-4083-8557-C5F687CF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1F41-9E6A-44B7-AD2C-8D89AF15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016B-1D48-421C-BA66-9D09774319F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EB9E-BA5A-4238-983A-0345B2D2394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B57A-5E91-4D4B-B75E-C6C09B55709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3C10-99EF-4F04-ADDC-315CB01EC8C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81E4-C5DD-466E-85CE-37747BB12FC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ads to ongoing investig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l explanations are tentativ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nomalous observations cannot be disregard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aradigm shifts may occur (Kuh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efits from scientific behavio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ay attention to what other people have already don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pose your ideas to testing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ssimilate the evidenc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penly communicate ideas and tests to other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lay fair: Act with scientific integrity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do we mean by…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gic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ig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ysticism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cience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ch of these has a set of core beliefs and practices that define it and distinguish it from other “worldviews”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laying the game…a metapho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3" name="Picture 5" descr="C:\Documents and Settings\ecrobeck\Local Settings\Temporary Internet Files\Content.IE5\RKGQ0G17\MP900422165[1].jpg"/>
          <p:cNvPicPr/>
          <p:nvPr/>
        </p:nvPicPr>
        <p:blipFill>
          <a:blip r:embed="rId1"/>
          <a:stretch/>
        </p:blipFill>
        <p:spPr>
          <a:xfrm>
            <a:off x="3432240" y="1752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C:\Documents and Settings\ecrobeck\Local Settings\Temporary Internet Files\Content.IE5\EOYNERVY\MC900318752[1].wmf"/>
          <p:cNvPicPr/>
          <p:nvPr/>
        </p:nvPicPr>
        <p:blipFill>
          <a:blip r:embed="rId2"/>
          <a:stretch/>
        </p:blipFill>
        <p:spPr>
          <a:xfrm>
            <a:off x="6248520" y="1905120"/>
            <a:ext cx="1430280" cy="1823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C:\Documents and Settings\ecrobeck\Local Settings\Temporary Internet Files\Content.IE5\EOYNERVY\MC900233050[1].wmf"/>
          <p:cNvPicPr/>
          <p:nvPr/>
        </p:nvPicPr>
        <p:blipFill>
          <a:blip r:embed="rId3"/>
          <a:stretch/>
        </p:blipFill>
        <p:spPr>
          <a:xfrm>
            <a:off x="3048120" y="4648320"/>
            <a:ext cx="2462040" cy="1776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C:\Documents and Settings\ecrobeck\Local Settings\Temporary Internet Files\Content.IE5\O3CJTFRG\MC900054050[1].wmf"/>
          <p:cNvPicPr/>
          <p:nvPr/>
        </p:nvPicPr>
        <p:blipFill>
          <a:blip r:embed="rId4"/>
          <a:stretch/>
        </p:blipFill>
        <p:spPr>
          <a:xfrm>
            <a:off x="762120" y="3733920"/>
            <a:ext cx="1633320" cy="2592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5" descr="C:\Program Files\Microsoft Office\MEDIA\CAGCAT10\j0285698.wmf"/>
          <p:cNvPicPr/>
          <p:nvPr/>
        </p:nvPicPr>
        <p:blipFill>
          <a:blip r:embed="rId5"/>
          <a:stretch/>
        </p:blipFill>
        <p:spPr>
          <a:xfrm>
            <a:off x="1371600" y="1905120"/>
            <a:ext cx="1706400" cy="1823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C:\Program Files\Microsoft Office\MEDIA\CAGCAT10\j0298653.wmf"/>
          <p:cNvPicPr/>
          <p:nvPr/>
        </p:nvPicPr>
        <p:blipFill>
          <a:blip r:embed="rId6"/>
          <a:stretch/>
        </p:blipFill>
        <p:spPr>
          <a:xfrm>
            <a:off x="5943600" y="4572000"/>
            <a:ext cx="29462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1600200" y="317520"/>
            <a:ext cx="640080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cuses on the natural worl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s opposed to…??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cience does not accept explanations based on supernatural caus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agic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ivine Interven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nimis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ysticis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cience relies on physical causes that posit interactions among fundamental entities; matter, energy, t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ims to explain the natural wor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orks to produce increasingly accurate explanations for how the world work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re are always more quest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Knowledge is always tentativ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es testable ide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parate assumptions from ideas that can be test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hysical causes for ev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Law of uniform chang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evelop tests that can confirm or refu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ll xenolobs are green”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re is no blue xenolob”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ies on Evid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cience rejects authorit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s NOT about voting (e.g., “most scientists believe…”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vidence must be auditable—if you want to check, can you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vidence must (usually) be consistent with established theory, since those theories are also based on evide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traordinary claims require extraordinary evide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arsimony – Occam’s raz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cience involves the scientific commun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eer review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plic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tribu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ecessity to publish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4:29:19Z</dcterms:created>
  <dc:creator>Information  Technology</dc:creator>
  <dc:description/>
  <dc:language>en-US</dc:language>
  <cp:lastModifiedBy>Information  Technology</cp:lastModifiedBy>
  <dcterms:modified xsi:type="dcterms:W3CDTF">2010-10-12T17:46:12Z</dcterms:modified>
  <cp:revision>31</cp:revision>
  <dc:subject/>
  <dc:title>Slide 1</dc:title>
</cp:coreProperties>
</file>