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A498C-D22F-4F3C-8320-EEE39ABC06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0835F-CB73-4DEB-A90A-713D7B441DF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0CC485-D95E-47A3-937C-4680627A83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E65E0-F9C7-4D09-88CD-4831264FC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0D520-CE5A-49AB-B6B9-4E4A1448AC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CD30D-C846-456C-9FCA-EE22F81A50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688995-8707-4C87-AA2A-019625BD16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5A755D-20CB-4A8A-9E64-53F154A93F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EC25AF-23F3-47A3-B286-F023F2E52C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E3251B-7179-46A0-9017-B484F0EE7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446BC-D981-418B-80F9-DD41D4066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D62AC-BB7F-4EFA-9746-EB21DCD62D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C4D996-DA57-4C1E-89D3-EA7102F76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0F7F1-6587-4164-9D50-F41C93BD6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4BB6A-A929-4231-B88B-99ED92008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70BE24-7FCB-4030-A0F0-AD85FF238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9485F1-D934-40FF-96DA-38D9E9291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695CBD-E371-4F0F-8DA2-472BAA6391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78BFE-870A-4979-81AE-5C036516B9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A79BE0-08FC-4132-93EC-FD934E996B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0489D8-FFCA-4747-9472-8CAEA03CF1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490F68-0AC1-4E26-9A84-CAF79BE508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37F3940-32C7-41AD-A782-B7FF7E96A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00AA8E-6D73-4791-9983-B52CAD4854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CAD3F-D064-4F67-A3BD-8E2971646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9C208-AA27-4B13-A4FB-298CDD1BD1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1483F6-3F95-46C0-89A7-CDDD5FAD1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C26111-5873-43B2-B3B1-D6E655D3EA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EBAE1-C723-47E0-804C-2DD83D8B6B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B88EB0-9063-4AD7-94C4-EB54FD724C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43CC4D-3666-4CB1-A4F7-65C75C047C2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7867E30-3D2B-4BFA-884E-EC03FD0E75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B17F14-1346-4664-8395-990833F842E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D10ADE-61D4-43CF-A392-F77C4C04A1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CFCC43-C44F-4FEF-931F-1751518F9C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840BA-F342-48B0-A291-CBDA3C7BE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3D8BDA-DD25-4FC7-8BAB-51695A8625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1F53C6-CBD2-4124-B99A-6932E431F5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75A842-6DED-4EB6-A1E4-CEA0934699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17C0F-3FAD-4456-9612-9D65502042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84D99D-60C2-4700-9698-B20BEC7166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6EFE1B-9DEA-4449-AF00-3EE9DF4CD9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7233D6-7C2A-420D-9162-2DEF2831B4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E2896B9-EBD1-47C0-820B-3A17A6FCD7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E43FCA-94C6-4704-B8DD-31AD7B680F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47A7F0-EDF5-4895-A580-A4A26CD9C1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D1A53-CB09-4619-B59A-698F55192E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BEBD3E-D838-4267-AD59-D1D61700AFB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78C2DA-D3D4-4924-B494-768C282207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A50E3E-C342-4C77-A60A-729F72809E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ABE833-976D-4E33-AF27-AB658B9927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E45EAE-5CAF-4DB8-94D9-427156F1CE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23AA18-1173-4FB2-9634-F9997565BA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70BE5E-AC26-43EC-B923-95B74EE20E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7556E-B10B-4ACA-9964-6F5F804BE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284288-B3DF-4652-B8A0-0BA7E55CE7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C93F29-B5AD-4DCC-BD5E-D48DD4F42F0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EBAF2-539B-4700-96EB-23855745F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CC0205-8115-4DE7-8599-8276E4B8FF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A6DDC1-77C1-4A7D-BE06-5E1AECC3D1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C97E1C-320E-4364-B341-50E33F5ED9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404F36D-E4E4-4D8E-B9CD-717A563ED1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07CC9C-D3EF-48A1-A9DC-6905E3FDF2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3E1F5E-729A-4870-AFAE-BB34294821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02FE63-5ECF-47EC-AC9E-4DC6C9A67D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A57B4D8-3825-4C73-8535-784C2D639F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24A2B-129F-48E2-B296-489377411F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78176B-3AB9-4A67-9773-FA4523C78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609B0-4D2A-4BF0-9439-FFCE0BF67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37CC56-B3B3-4790-A8C7-406D1D771E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F77F19-5A21-49D8-9C01-DE288C7A1DB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C43947-E284-4E80-87C7-96FE85597A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0A82B1-36B9-4E55-8FFD-C4F4F670E5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38C74E-2C6A-4A04-B1CF-33F79BDE5B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A440CBF-BB67-4B0F-B960-7CEA9E1800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3C806E-E69D-4CE6-B706-F50DB39E29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D26F9A-36C7-4868-B929-6CA243F895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0A3817-95D1-4FD4-9239-75061673E3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6DD31B-98FB-4E93-81EC-BDBF4D9765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94568-0F5E-4A93-8495-9E86DEDF5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42943F-6D49-4DAD-8FAE-F2F97DEF20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9B25F0-DE1C-43AB-A0E3-247E84DE7E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FE2777-FEE6-4C95-8A40-8DB165537D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5DC658-6CB4-43AB-BFEA-1614AA925A1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463996-1426-40E7-819A-E4BB2AD5B4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2BEEB8-0A58-4B9E-90E0-5F27BE49E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1D5F-5282-41C3-8337-0F555CD9113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B4961-05CE-4FF1-A63E-076828FBBAB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B6D6-506C-4ADB-9A0B-5461DCF1A6B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40EE9-D549-4CBA-8179-1DDB368CF7C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50456-3EB6-4090-8CEC-54A73047948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24E72-220D-4305-89AA-FF108B7BE93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52025-FCCD-4107-8901-54839B63C74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914400" y="5230800"/>
            <a:ext cx="7772400" cy="1109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77"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5"/>
                                        </p:tgtEl>
                                        <p:attrNameLst>
                                          <p:attrName>style.visibility</p:attrName>
                                        </p:attrNameLst>
                                      </p:cBhvr>
                                      <p:to>
                                        <p:strVal val="visible"/>
                                      </p:to>
                                    </p:set>
                                    <p:animEffect filter="fade" transition="in">
                                      <p:cBhvr additive="repl">
                                        <p:cTn id="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00" name="Picture 2" descr=""/>
          <p:cNvPicPr/>
          <p:nvPr/>
        </p:nvPicPr>
        <p:blipFill>
          <a:blip r:embed="rId1"/>
          <a:stretch/>
        </p:blipFill>
        <p:spPr>
          <a:xfrm>
            <a:off x="1600200" y="1523880"/>
            <a:ext cx="3286080" cy="2254320"/>
          </a:xfrm>
          <a:prstGeom prst="rect">
            <a:avLst/>
          </a:prstGeom>
          <a:ln w="0">
            <a:noFill/>
          </a:ln>
        </p:spPr>
      </p:pic>
      <p:pic>
        <p:nvPicPr>
          <p:cNvPr id="401" name="Picture 4" descr=""/>
          <p:cNvPicPr/>
          <p:nvPr/>
        </p:nvPicPr>
        <p:blipFill>
          <a:blip r:embed="rId2"/>
          <a:stretch/>
        </p:blipFill>
        <p:spPr>
          <a:xfrm>
            <a:off x="5105520" y="1371600"/>
            <a:ext cx="2781360" cy="2085840"/>
          </a:xfrm>
          <a:prstGeom prst="rect">
            <a:avLst/>
          </a:prstGeom>
          <a:ln w="0">
            <a:noFill/>
          </a:ln>
        </p:spPr>
      </p:pic>
      <p:pic>
        <p:nvPicPr>
          <p:cNvPr id="402" name="Picture 5" descr=""/>
          <p:cNvPicPr/>
          <p:nvPr/>
        </p:nvPicPr>
        <p:blipFill>
          <a:blip r:embed="rId3"/>
          <a:stretch/>
        </p:blipFill>
        <p:spPr>
          <a:xfrm>
            <a:off x="1600200" y="4629240"/>
            <a:ext cx="3429000" cy="2228760"/>
          </a:xfrm>
          <a:prstGeom prst="rect">
            <a:avLst/>
          </a:prstGeom>
          <a:ln w="0">
            <a:noFill/>
          </a:ln>
        </p:spPr>
      </p:pic>
      <p:pic>
        <p:nvPicPr>
          <p:cNvPr id="403" name="Picture 6" descr=""/>
          <p:cNvPicPr/>
          <p:nvPr/>
        </p:nvPicPr>
        <p:blipFill>
          <a:blip r:embed="rId4"/>
          <a:stretch/>
        </p:blipFill>
        <p:spPr>
          <a:xfrm>
            <a:off x="5181480" y="4876920"/>
            <a:ext cx="3589560" cy="1828800"/>
          </a:xfrm>
          <a:prstGeom prst="rect">
            <a:avLst/>
          </a:prstGeom>
          <a:ln w="0">
            <a:noFill/>
          </a:ln>
        </p:spPr>
      </p:pic>
      <p:pic>
        <p:nvPicPr>
          <p:cNvPr id="404" name="Picture 7" descr=""/>
          <p:cNvPicPr/>
          <p:nvPr/>
        </p:nvPicPr>
        <p:blipFill>
          <a:blip r:embed="rId5"/>
          <a:stretch/>
        </p:blipFill>
        <p:spPr>
          <a:xfrm>
            <a:off x="533520" y="2819520"/>
            <a:ext cx="2000160" cy="2286000"/>
          </a:xfrm>
          <a:prstGeom prst="rect">
            <a:avLst/>
          </a:prstGeom>
          <a:ln w="0">
            <a:noFill/>
          </a:ln>
        </p:spPr>
      </p:pic>
      <p:pic>
        <p:nvPicPr>
          <p:cNvPr id="405"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07"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11"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12"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15" name="Content Placeholder 9" descr=""/>
          <p:cNvPicPr/>
          <p:nvPr/>
        </p:nvPicPr>
        <p:blipFill>
          <a:blip r:embed="rId1"/>
          <a:stretch/>
        </p:blipFill>
        <p:spPr>
          <a:xfrm>
            <a:off x="914400" y="585720"/>
            <a:ext cx="7772400" cy="6510240"/>
          </a:xfrm>
          <a:prstGeom prst="rect">
            <a:avLst/>
          </a:prstGeom>
          <a:ln w="0">
            <a:noFill/>
          </a:ln>
        </p:spPr>
      </p:pic>
      <p:sp>
        <p:nvSpPr>
          <p:cNvPr id="416"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1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9" name="Picture 2" descr=""/>
          <p:cNvPicPr/>
          <p:nvPr/>
        </p:nvPicPr>
        <p:blipFill>
          <a:blip r:embed="rId1"/>
          <a:stretch/>
        </p:blipFill>
        <p:spPr>
          <a:xfrm>
            <a:off x="5486400" y="4200480"/>
            <a:ext cx="2422440" cy="2657520"/>
          </a:xfrm>
          <a:prstGeom prst="rect">
            <a:avLst/>
          </a:prstGeom>
          <a:ln w="0">
            <a:noFill/>
          </a:ln>
        </p:spPr>
      </p:pic>
      <p:pic>
        <p:nvPicPr>
          <p:cNvPr id="420" name="Picture 3" descr=""/>
          <p:cNvPicPr/>
          <p:nvPr/>
        </p:nvPicPr>
        <p:blipFill>
          <a:blip r:embed="rId2"/>
          <a:stretch/>
        </p:blipFill>
        <p:spPr>
          <a:xfrm>
            <a:off x="1676520" y="4200480"/>
            <a:ext cx="2073240" cy="2657520"/>
          </a:xfrm>
          <a:prstGeom prst="rect">
            <a:avLst/>
          </a:prstGeom>
          <a:ln w="0">
            <a:noFill/>
          </a:ln>
        </p:spPr>
      </p:pic>
      <p:pic>
        <p:nvPicPr>
          <p:cNvPr id="421"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3" name="Picture 3" descr=""/>
          <p:cNvPicPr/>
          <p:nvPr/>
        </p:nvPicPr>
        <p:blipFill>
          <a:blip r:embed="rId1"/>
          <a:stretch/>
        </p:blipFill>
        <p:spPr>
          <a:xfrm>
            <a:off x="6324480" y="838080"/>
            <a:ext cx="2581560" cy="1771920"/>
          </a:xfrm>
          <a:prstGeom prst="rect">
            <a:avLst/>
          </a:prstGeom>
          <a:ln w="0">
            <a:noFill/>
          </a:ln>
        </p:spPr>
      </p:pic>
      <p:pic>
        <p:nvPicPr>
          <p:cNvPr id="424" name="Picture 4" descr=""/>
          <p:cNvPicPr/>
          <p:nvPr/>
        </p:nvPicPr>
        <p:blipFill>
          <a:blip r:embed="rId2"/>
          <a:stretch/>
        </p:blipFill>
        <p:spPr>
          <a:xfrm>
            <a:off x="3429000" y="838080"/>
            <a:ext cx="2701800" cy="1792440"/>
          </a:xfrm>
          <a:prstGeom prst="rect">
            <a:avLst/>
          </a:prstGeom>
          <a:ln w="0">
            <a:noFill/>
          </a:ln>
        </p:spPr>
      </p:pic>
      <p:pic>
        <p:nvPicPr>
          <p:cNvPr id="425"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7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0"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82">
                                            <p:txEl>
                                              <p:pRg st="5" end="5"/>
                                            </p:txEl>
                                          </p:spTgt>
                                        </p:tgtEl>
                                        <p:attrNameLst>
                                          <p:attrName>style.visibility</p:attrName>
                                        </p:attrNameLst>
                                      </p:cBhvr>
                                      <p:to>
                                        <p:strVal val="visible"/>
                                      </p:to>
                                    </p:set>
                                    <p:animEffect filter="fade" transition="in">
                                      <p:cBhvr additive="repl">
                                        <p:cTn id="14" dur="500"/>
                                        <p:tgtEl>
                                          <p:spTgt spid="3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38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8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38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0"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391" name="Picture 2" descr=""/>
          <p:cNvPicPr/>
          <p:nvPr/>
        </p:nvPicPr>
        <p:blipFill>
          <a:blip r:embed="rId2"/>
          <a:stretch/>
        </p:blipFill>
        <p:spPr>
          <a:xfrm>
            <a:off x="6629400" y="1523880"/>
            <a:ext cx="1847880" cy="2467080"/>
          </a:xfrm>
          <a:prstGeom prst="rect">
            <a:avLst/>
          </a:prstGeom>
          <a:ln w="0">
            <a:noFill/>
          </a:ln>
        </p:spPr>
      </p:pic>
      <p:sp>
        <p:nvSpPr>
          <p:cNvPr id="392"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baseline="30000">
                <a:solidFill>
                  <a:srgbClr val="ffffff"/>
                </a:solidFill>
                <a:latin typeface="Corbel"/>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394" name=""/>
          <p:cNvSpPr txBox="1"/>
          <p:nvPr/>
        </p:nvSpPr>
        <p:spPr>
          <a:xfrm>
            <a:off x="914400" y="1784520"/>
            <a:ext cx="3200400" cy="4572000"/>
          </a:xfrm>
          <a:prstGeom prst="rect">
            <a:avLst/>
          </a:prstGeom>
          <a:noFill/>
          <a:ln w="0">
            <a:noFill/>
          </a:ln>
        </p:spPr>
        <p:txBody>
          <a:bodyPr anchor="t">
            <a:normAutofit fontScale="94000"/>
          </a:bodyPr>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irit entities are communicating through the Earth</a:t>
            </a:r>
            <a:endParaRPr b="0" lang="en-US" sz="3000" spc="-1" strike="noStrike">
              <a:solidFill>
                <a:srgbClr val="ffffff"/>
              </a:solidFill>
              <a:latin typeface="Corbel"/>
            </a:endParaRPr>
          </a:p>
          <a:p>
            <a:pPr marL="386280" indent="-32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niversity math students are playing a prank</a:t>
            </a:r>
            <a:endParaRPr b="0" lang="en-US" sz="3000" spc="-1" strike="noStrike">
              <a:solidFill>
                <a:srgbClr val="ffffff"/>
              </a:solidFill>
              <a:latin typeface="Corbel"/>
            </a:endParaRPr>
          </a:p>
        </p:txBody>
      </p:sp>
      <p:pic>
        <p:nvPicPr>
          <p:cNvPr id="395" name="Picture 2" descr="http://static.ddmcdn.com/gif/crop-circle-12.jpg"/>
          <p:cNvPicPr/>
          <p:nvPr/>
        </p:nvPicPr>
        <p:blipFill>
          <a:blip r:embed="rId1"/>
          <a:stretch/>
        </p:blipFill>
        <p:spPr>
          <a:xfrm>
            <a:off x="4521240" y="1828800"/>
            <a:ext cx="41655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7"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98"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Administrator</cp:lastModifiedBy>
  <dcterms:modified xsi:type="dcterms:W3CDTF">2013-02-27T18:51:37Z</dcterms:modified>
  <cp:revision>3</cp:revision>
  <dc:subject/>
  <dc:title>Nature of science</dc:title>
</cp:coreProperties>
</file>