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C610-02F5-4B6E-872F-55F6111375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F3FB-FF47-402C-9D25-2F12DE7B1B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68691-2AB0-4505-8082-3DC4A9026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B8E6-30CD-44A2-B488-4215C17A1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81E96-05EB-4E30-806E-02C1C7280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EED34-7252-46E3-8CA0-5EC4A6B61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546A5-CA0F-45BD-BE47-B844FDFDA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8654C-302C-401D-90B7-20A9DC36F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17267-2589-48F2-9F0F-0FF8C7307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F4157-8678-4ED3-BCDA-B9B6224BF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90C4A-9F2C-48AF-A75B-80F4B671A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6CBB6-18D7-43E5-A637-87DF47003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E5AF4-D9DD-4974-BAB7-00D3B53A1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DD2DC-B918-4804-8D69-506F0A4FA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2F357-BB13-4CE7-856B-7E5BF28AC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1492E-DC9A-433C-88C9-20AAA445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0BF68-CF94-4FD4-82FC-46FD2D311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1AF82-4483-4717-B4CE-25F1A3ECA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5BC3A-AB39-411D-B0B5-300F37918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658B39-9EF7-4743-BF43-806C822DA8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FA19A2-2187-4CFA-9D12-B2E8F47FF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53B428-B20C-4EB2-8F38-D5BC6CD8A2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CB72B0-6B29-4A69-B511-D3BB2FC43A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5ACAE0-8138-40AA-B89C-E476E11CD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97F74-0701-4627-931C-121EF6D04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C4883-A0A8-4572-8F4E-0403BEF5C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E663D-297D-4911-8C78-1D16492F1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7A6B3-035E-45FF-A5D1-830AF705C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75AB9-E438-4F58-AD89-AA30744D2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69BDD-D963-40AD-BEC1-96AA9FAD4D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62FD6B-12A3-41BC-88BC-F5D855DE2B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9E789-4D9F-4017-94FB-6D73BF8DF0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51A46F-545F-472F-B928-72352C617C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0ED9CA-78BA-4C8D-94D0-07FEF025C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F7364-B102-4B07-9C9D-F8772D78ED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0D8ED-96E7-4D6E-AA50-46BFB989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09404-647D-4E7B-A4CC-E9EEB5EFA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FB2F9-AF6A-47BF-8A40-8C11A8A6E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90FCC2-7C7C-4F80-A98D-5CC628CF5F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D5A3F-75CA-4872-9C62-51EEBFF54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7E021-18CB-40A7-883E-9C1C70130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49DD9-8BA7-4F29-A957-EE1894E2F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C875C-0B88-49F1-A4EF-9F219DAB3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A6C80E-3DC4-400B-AFC7-FC8D9B8E95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8973D6-A55F-4957-AEDC-7C077DA016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0459C4-68B6-491E-B6A8-7330B9DC7B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9D1A0-C03E-40F7-B648-A097287C7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F2A937-FF77-4CA8-9626-1D262E5348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BA4343-08B9-4B25-A123-14852101F3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F9C7A-4496-4228-A254-2E36F22288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AEA01D-66C7-47F0-93A1-DE3759AF8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0AB4A2-3680-467E-BB17-9F13F6E171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5E694-5FC9-4A95-8FB9-7659D1370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315AB9-D3E5-4397-9F50-08331F39A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D0C79-BDBE-4041-875B-FCD079226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5CD3A-0218-4F98-B05C-8FCB0980B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0535AF-98BA-48E6-B86A-271E583064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AFC70-D234-4698-9D15-33E692B1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161C65-3EA1-4A85-8756-F628974A45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1649DC-2726-4DAA-84A2-FD8A18A5EB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9C55D-52A2-4481-B313-25C0A83FD6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1793BF-6B5B-4738-91B4-02171B400F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5AD89A-A9A0-47DE-87C8-452AF0D552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7AA4FE-2D8F-4CEB-ADF2-1503E8DDC5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A55018-05B9-4570-AE5C-618DB93CF0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FBC97-7AE8-4EA8-86EB-CDCF5FBF7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85D73-3EB3-4BB8-AF89-7B9C9DD57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CAECA-BDE3-47B9-9F70-F7F5877ABC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0659D-C9E1-43E3-A9D5-2B964571A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E66641-6746-4C9A-9376-85A8B74BE0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B7A058-3912-468A-94E4-35D0BDC05B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020FE6-6A5F-4E73-B86E-8CA8A91628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B8CDE8-2E63-4CAD-AD17-8055D99D1F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AD80A1-6C8A-4644-B848-9C8BD1711F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9CCFA5-E3A7-4381-B162-A0992D3A9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586EA9-D7D7-4DE7-A178-9CDC815036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A5325-D4C1-4170-9F63-E0C2389609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61F13-5381-4699-9CC5-D85A488FBA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66E74-2E4A-46BF-8BB5-10DEA7D48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AE0A-1177-4837-B23D-7E36A7C6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CE6BC1-5F69-4AD4-971C-1AC18AC697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D3ED1-B833-40E9-BD83-17A948C2E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55AB53-CBA6-4C3E-B1D5-9F3A6FA40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ED1FBA-EF8E-497C-9CE2-10CEF27CD7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0E977E-3F15-439A-89FD-6C454B598F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C5794-9221-4624-9C7E-AF6DF1390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E7B7-A432-4832-9257-CCC31FE220E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7E64-7E33-4910-A48E-BFA7B96516A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A1D6-B4C0-4E71-BA55-02E46EFD83E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7FB2-8D31-4F80-AA32-7E43DD29C66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27D1-8C53-467F-BB4C-E1C2288FAFA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974D-EABA-4C9D-8D4E-8A01B91184B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28EE-611C-4412-8044-CE909E37800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914400" y="5230800"/>
            <a:ext cx="7772400" cy="1109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77"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5"/>
                                        </p:tgtEl>
                                        <p:attrNameLst>
                                          <p:attrName>style.visibility</p:attrName>
                                        </p:attrNameLst>
                                      </p:cBhvr>
                                      <p:to>
                                        <p:strVal val="visible"/>
                                      </p:to>
                                    </p:set>
                                    <p:animEffect filter="fade" transition="in">
                                      <p:cBhvr additive="repl">
                                        <p:cTn id="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00" name="Picture 2" descr=""/>
          <p:cNvPicPr/>
          <p:nvPr/>
        </p:nvPicPr>
        <p:blipFill>
          <a:blip r:embed="rId1"/>
          <a:stretch/>
        </p:blipFill>
        <p:spPr>
          <a:xfrm>
            <a:off x="1600200" y="1523880"/>
            <a:ext cx="3286080" cy="2254320"/>
          </a:xfrm>
          <a:prstGeom prst="rect">
            <a:avLst/>
          </a:prstGeom>
          <a:ln w="0">
            <a:noFill/>
          </a:ln>
        </p:spPr>
      </p:pic>
      <p:pic>
        <p:nvPicPr>
          <p:cNvPr id="401" name="Picture 4" descr=""/>
          <p:cNvPicPr/>
          <p:nvPr/>
        </p:nvPicPr>
        <p:blipFill>
          <a:blip r:embed="rId2"/>
          <a:stretch/>
        </p:blipFill>
        <p:spPr>
          <a:xfrm>
            <a:off x="5105520" y="1371600"/>
            <a:ext cx="2781360" cy="2085840"/>
          </a:xfrm>
          <a:prstGeom prst="rect">
            <a:avLst/>
          </a:prstGeom>
          <a:ln w="0">
            <a:noFill/>
          </a:ln>
        </p:spPr>
      </p:pic>
      <p:pic>
        <p:nvPicPr>
          <p:cNvPr id="402" name="Picture 5" descr=""/>
          <p:cNvPicPr/>
          <p:nvPr/>
        </p:nvPicPr>
        <p:blipFill>
          <a:blip r:embed="rId3"/>
          <a:stretch/>
        </p:blipFill>
        <p:spPr>
          <a:xfrm>
            <a:off x="1600200" y="4629240"/>
            <a:ext cx="3429000" cy="2228760"/>
          </a:xfrm>
          <a:prstGeom prst="rect">
            <a:avLst/>
          </a:prstGeom>
          <a:ln w="0">
            <a:noFill/>
          </a:ln>
        </p:spPr>
      </p:pic>
      <p:pic>
        <p:nvPicPr>
          <p:cNvPr id="403" name="Picture 6" descr=""/>
          <p:cNvPicPr/>
          <p:nvPr/>
        </p:nvPicPr>
        <p:blipFill>
          <a:blip r:embed="rId4"/>
          <a:stretch/>
        </p:blipFill>
        <p:spPr>
          <a:xfrm>
            <a:off x="5181480" y="4876920"/>
            <a:ext cx="3589560" cy="1828800"/>
          </a:xfrm>
          <a:prstGeom prst="rect">
            <a:avLst/>
          </a:prstGeom>
          <a:ln w="0">
            <a:noFill/>
          </a:ln>
        </p:spPr>
      </p:pic>
      <p:pic>
        <p:nvPicPr>
          <p:cNvPr id="404" name="Picture 7" descr=""/>
          <p:cNvPicPr/>
          <p:nvPr/>
        </p:nvPicPr>
        <p:blipFill>
          <a:blip r:embed="rId5"/>
          <a:stretch/>
        </p:blipFill>
        <p:spPr>
          <a:xfrm>
            <a:off x="533520" y="2819520"/>
            <a:ext cx="2000160" cy="2286000"/>
          </a:xfrm>
          <a:prstGeom prst="rect">
            <a:avLst/>
          </a:prstGeom>
          <a:ln w="0">
            <a:noFill/>
          </a:ln>
        </p:spPr>
      </p:pic>
      <p:pic>
        <p:nvPicPr>
          <p:cNvPr id="405"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07"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11"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12"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15" name="Content Placeholder 9" descr=""/>
          <p:cNvPicPr/>
          <p:nvPr/>
        </p:nvPicPr>
        <p:blipFill>
          <a:blip r:embed="rId1"/>
          <a:stretch/>
        </p:blipFill>
        <p:spPr>
          <a:xfrm>
            <a:off x="914400" y="585720"/>
            <a:ext cx="7772400" cy="6510240"/>
          </a:xfrm>
          <a:prstGeom prst="rect">
            <a:avLst/>
          </a:prstGeom>
          <a:ln w="0">
            <a:noFill/>
          </a:ln>
        </p:spPr>
      </p:pic>
      <p:sp>
        <p:nvSpPr>
          <p:cNvPr id="416"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9" name="Picture 2" descr=""/>
          <p:cNvPicPr/>
          <p:nvPr/>
        </p:nvPicPr>
        <p:blipFill>
          <a:blip r:embed="rId1"/>
          <a:stretch/>
        </p:blipFill>
        <p:spPr>
          <a:xfrm>
            <a:off x="5486400" y="4200480"/>
            <a:ext cx="2422440" cy="2657520"/>
          </a:xfrm>
          <a:prstGeom prst="rect">
            <a:avLst/>
          </a:prstGeom>
          <a:ln w="0">
            <a:noFill/>
          </a:ln>
        </p:spPr>
      </p:pic>
      <p:pic>
        <p:nvPicPr>
          <p:cNvPr id="420" name="Picture 3" descr=""/>
          <p:cNvPicPr/>
          <p:nvPr/>
        </p:nvPicPr>
        <p:blipFill>
          <a:blip r:embed="rId2"/>
          <a:stretch/>
        </p:blipFill>
        <p:spPr>
          <a:xfrm>
            <a:off x="1676520" y="4200480"/>
            <a:ext cx="2073240" cy="2657520"/>
          </a:xfrm>
          <a:prstGeom prst="rect">
            <a:avLst/>
          </a:prstGeom>
          <a:ln w="0">
            <a:noFill/>
          </a:ln>
        </p:spPr>
      </p:pic>
      <p:pic>
        <p:nvPicPr>
          <p:cNvPr id="421"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3" name="Picture 3" descr=""/>
          <p:cNvPicPr/>
          <p:nvPr/>
        </p:nvPicPr>
        <p:blipFill>
          <a:blip r:embed="rId1"/>
          <a:stretch/>
        </p:blipFill>
        <p:spPr>
          <a:xfrm>
            <a:off x="6324480" y="838080"/>
            <a:ext cx="2581560" cy="1771920"/>
          </a:xfrm>
          <a:prstGeom prst="rect">
            <a:avLst/>
          </a:prstGeom>
          <a:ln w="0">
            <a:noFill/>
          </a:ln>
        </p:spPr>
      </p:pic>
      <p:pic>
        <p:nvPicPr>
          <p:cNvPr id="424" name="Picture 4" descr=""/>
          <p:cNvPicPr/>
          <p:nvPr/>
        </p:nvPicPr>
        <p:blipFill>
          <a:blip r:embed="rId2"/>
          <a:stretch/>
        </p:blipFill>
        <p:spPr>
          <a:xfrm>
            <a:off x="3429000" y="838080"/>
            <a:ext cx="2701800" cy="1792440"/>
          </a:xfrm>
          <a:prstGeom prst="rect">
            <a:avLst/>
          </a:prstGeom>
          <a:ln w="0">
            <a:noFill/>
          </a:ln>
        </p:spPr>
      </p:pic>
      <p:pic>
        <p:nvPicPr>
          <p:cNvPr id="425"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7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0"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2">
                                            <p:txEl>
                                              <p:pRg st="5" end="5"/>
                                            </p:txEl>
                                          </p:spTgt>
                                        </p:tgtEl>
                                        <p:attrNameLst>
                                          <p:attrName>style.visibility</p:attrName>
                                        </p:attrNameLst>
                                      </p:cBhvr>
                                      <p:to>
                                        <p:strVal val="visible"/>
                                      </p:to>
                                    </p:set>
                                    <p:animEffect filter="fade" transition="in">
                                      <p:cBhvr additive="repl">
                                        <p:cTn id="14" dur="500"/>
                                        <p:tgtEl>
                                          <p:spTgt spid="3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3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8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0"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391" name="Picture 2" descr=""/>
          <p:cNvPicPr/>
          <p:nvPr/>
        </p:nvPicPr>
        <p:blipFill>
          <a:blip r:embed="rId2"/>
          <a:stretch/>
        </p:blipFill>
        <p:spPr>
          <a:xfrm>
            <a:off x="6629400" y="1523880"/>
            <a:ext cx="1847880" cy="2467080"/>
          </a:xfrm>
          <a:prstGeom prst="rect">
            <a:avLst/>
          </a:prstGeom>
          <a:ln w="0">
            <a:noFill/>
          </a:ln>
        </p:spPr>
      </p:pic>
      <p:sp>
        <p:nvSpPr>
          <p:cNvPr id="392"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baseline="30000">
                <a:solidFill>
                  <a:srgbClr val="ffffff"/>
                </a:solidFill>
                <a:latin typeface="Corbel"/>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394" name=""/>
          <p:cNvSpPr txBox="1"/>
          <p:nvPr/>
        </p:nvSpPr>
        <p:spPr>
          <a:xfrm>
            <a:off x="914400" y="1784520"/>
            <a:ext cx="3200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irit entities are communicating through the Earth</a:t>
            </a:r>
            <a:endParaRPr b="0" lang="en-US" sz="3000" spc="-1" strike="noStrike">
              <a:solidFill>
                <a:srgbClr val="ffffff"/>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niversity math students are playing a prank</a:t>
            </a:r>
            <a:endParaRPr b="0" lang="en-US" sz="3000" spc="-1" strike="noStrike">
              <a:solidFill>
                <a:srgbClr val="ffffff"/>
              </a:solidFill>
              <a:latin typeface="Corbel"/>
            </a:endParaRPr>
          </a:p>
        </p:txBody>
      </p:sp>
      <p:pic>
        <p:nvPicPr>
          <p:cNvPr id="395" name="Picture 2" descr="http://static.ddmcdn.com/gif/crop-circle-12.jpg"/>
          <p:cNvPicPr/>
          <p:nvPr/>
        </p:nvPicPr>
        <p:blipFill>
          <a:blip r:embed="rId1"/>
          <a:stretch/>
        </p:blipFill>
        <p:spPr>
          <a:xfrm>
            <a:off x="4521240" y="1828800"/>
            <a:ext cx="41655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7"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98"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Administrator</cp:lastModifiedBy>
  <dcterms:modified xsi:type="dcterms:W3CDTF">2013-02-27T18:51:37Z</dcterms:modified>
  <cp:revision>3</cp:revision>
  <dc:subject/>
  <dc:title>Nature of science</dc:title>
</cp:coreProperties>
</file>