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1.png" ContentType="image/pn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6.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9FD91-E20F-4C7B-A123-7B7C5C4D1C4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04840" y="696960"/>
            <a:ext cx="4648320" cy="3486240"/>
          </a:xfrm>
          <a:prstGeom prst="rect">
            <a:avLst/>
          </a:prstGeom>
          <a:ln w="0">
            <a:noFill/>
          </a:ln>
        </p:spPr>
      </p:sp>
      <p:sp>
        <p:nvSpPr>
          <p:cNvPr id="42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587D0-89EE-49CA-839F-E764162FCD3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040EC-1733-4BA1-8BF6-7BEC8C573A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055482-75A5-454E-ACC9-3FB2B4381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135E72-ADBF-4163-94D6-92B24F8C4A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49C45-9BF1-4FD9-B9AF-9FF60C278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58FE51-81F0-44D9-A3AE-C8BBEB2B3C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DD88B6-6A8C-4630-ACEC-7AF62F04B1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BD4A80-4C1A-4709-8C5D-6953C4A257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038F65-A99A-424B-A71F-B752567339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803055-0D60-42B3-A974-DD6864361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473FDA-D9D2-4CE4-9508-9422B5F4A9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8FB74-2A92-4CC9-B84A-2A98672E68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3729D3-86C3-43A8-AC6A-58DF89107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DAA83A-AE77-4B17-857F-BDDBC735C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458472-3ABE-401F-BFA0-907A4B307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A3506-C29B-4871-9C5A-6E7538203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09E181-CC59-4FD4-BF3C-4C3447B66C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62B405-1D07-4836-83D9-8775240AF7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911439-403F-42FC-B342-4B1BAB9862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BF7013-3A88-41D5-BB51-5EDB9A8A7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6D045B-4E13-40D3-A4DA-6FA6B3B13F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951EB2-7829-46FE-9FD0-21F28FA631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9C59C-06CD-4C1A-9885-98C26B6822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5BA3AD-9BD5-42DC-AC32-5BC865656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B430BA-CE3F-48C8-8277-DB1488250B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E073D-E77D-4E31-ACA3-42DD3E66D8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A2C2B0-ED5D-4EFA-B17B-465C20F7D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E6C30D-BB3A-4216-89CB-7D048104EE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D7A90BF-B97C-49A5-989C-243BA9A248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514335-9D5E-4C06-8824-B109621A1A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255031-09EB-41D5-AFE0-BF6C0AB155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12BB98-7AD8-40A7-86F4-0D8A18B665F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204E66-039C-44ED-94C2-5238C8D21A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A5F167-F7B6-49C8-BFA4-6D3C1FC5A6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063E63-47E9-468C-9F5C-9852E4F3E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AA4D7C-A0A4-42C1-BCB3-4C795291D4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9157A-04A0-4026-89DE-B2D5F8CE04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D13967-EEC6-4DBA-9E6E-51DEC7482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0D5BDD-2B25-4BDD-82C5-CC3CE04CC7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D704DD-23F2-4989-9878-587FAB320F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5E1CD-44FC-4F13-B3AD-E6E6471563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094889-E4C9-45CD-BAAF-D25791B79B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EE8614-6CCB-402F-9ACF-29E82BA11EE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FDE106-4FEA-4ED5-9211-080D58F9C9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04FD4CA-CA62-4DF4-9681-930C435E76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A8460-38E2-4CC8-B47A-F4994CA720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6706600-1F8A-4256-9280-A2B1CB579A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0804206-BEB4-4666-80F3-52E54848DA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2002AB-AAAB-43D7-994B-C816DD5531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54BB3A-67C5-4053-941C-0CED710392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AE94CC-59E1-4BC2-B5D3-ED25E0B43B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3DB8DD-7114-46DB-BDA2-81433BB2D0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992A05-E25B-4885-90C2-CAF271A269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C3C72E-7050-49D9-88F1-09F5808DD5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B816AC-2678-4C9F-B8E1-77CC4AC1CC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833869-B5DB-440D-9C70-881F90834D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10D1A1-B3BB-4B41-A34E-730B881CD7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59CC9F-7F43-4F33-B897-4F76A3E86D9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1855A6-9DEE-45A5-A5F5-9230132834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9DAB03-2311-4687-AB23-55414606EE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0682BF-FD62-4BB4-AE06-B89CA3C7D6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154B9C-2E58-4803-A680-B5F824F8C2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FF7108-88E2-4945-878E-334193A3A58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546EA2-0CCE-47F9-B092-8DF4D6C9D2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0B0007-29C3-4B1D-83C9-CF096DF2FD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1C1CEE-AF98-45AF-9DD9-DCD91B36E8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7C7F629-86A4-45C8-BE38-D2B08109B0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919F7-FBD6-48EB-BCA6-2457C9F7B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F6585F-C98E-4F08-AABC-40731C840B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357AC3F-8FCE-458D-8B8B-8616A1C935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190E72-52FD-4550-80FF-FB3712D8C2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72940C-27E4-4315-B0C1-08DE9C5120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0CE520F-116A-415A-9071-5D1D222021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415BC8D-C21C-4F1F-971A-07567794B0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65EF27-C8B5-41C2-8C04-ABE1E97317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F9F1B4-AD64-42EC-88AC-8ABF10306E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A630638-7361-4CB0-A12C-B758F3E9C6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00B77-5621-466E-AC4F-888ECB0216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B452A5-5773-4185-9024-F736EBB9B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62324D-EC94-44E1-AC7F-66BED76C5C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0BA994-712C-4B41-9650-3B21079D64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469113-AC2A-4E9E-B51F-DF90CDC19BE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3413A2-3CE1-4AF8-A69B-A1AA494394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C49988F-3278-4D90-818F-44E064426D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EDBAA-D5DF-40AD-822A-24484D37FA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20C3D-B4BF-4B97-993C-354803A39C0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0DC44-8DBF-407A-A654-C31882453B0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26851-D137-4F23-BFB7-21FB2D275DD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E7A4E-4408-4631-B101-96F114335D8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3022D-B53E-4C93-8B3E-D274CEE48720}"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8B9AC-046C-4A7D-BC93-E807197E1DB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520" y="1217520"/>
            <a:ext cx="128520" cy="131400"/>
            <a:chOff x="8516520" y="1217520"/>
            <a:chExt cx="128520" cy="131400"/>
          </a:xfrm>
        </p:grpSpPr>
        <p:sp>
          <p:nvSpPr>
            <p:cNvPr id="316" name="Straight Connector 20"/>
            <p:cNvSpPr/>
            <p:nvPr/>
          </p:nvSpPr>
          <p:spPr>
            <a:xfrm>
              <a:off x="8573760" y="12175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520" y="12826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3760" y="12823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520" y="1370160"/>
            <a:ext cx="128520" cy="131400"/>
            <a:chOff x="8669520" y="1370160"/>
            <a:chExt cx="128520" cy="131400"/>
          </a:xfrm>
        </p:grpSpPr>
        <p:sp>
          <p:nvSpPr>
            <p:cNvPr id="320" name="Straight Connector 26"/>
            <p:cNvSpPr/>
            <p:nvPr/>
          </p:nvSpPr>
          <p:spPr>
            <a:xfrm>
              <a:off x="8726760" y="137016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520" y="1435320"/>
              <a:ext cx="10116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6760" y="143496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400" y="1473120"/>
            <a:ext cx="128520" cy="131400"/>
            <a:chOff x="8321400" y="1473120"/>
            <a:chExt cx="128520" cy="131400"/>
          </a:xfrm>
        </p:grpSpPr>
        <p:sp>
          <p:nvSpPr>
            <p:cNvPr id="324" name="Straight Connector 30"/>
            <p:cNvSpPr/>
            <p:nvPr/>
          </p:nvSpPr>
          <p:spPr>
            <a:xfrm>
              <a:off x="8378640" y="1473120"/>
              <a:ext cx="712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400" y="1538280"/>
              <a:ext cx="10080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78640" y="1537920"/>
              <a:ext cx="712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74628-C6BA-46D1-9553-BB9AE0F850F5}"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1" descr=""/>
          <p:cNvPicPr/>
          <p:nvPr/>
        </p:nvPicPr>
        <p:blipFill>
          <a:blip r:embed="rId1"/>
          <a:stretch/>
        </p:blipFill>
        <p:spPr>
          <a:xfrm>
            <a:off x="914400" y="5230800"/>
            <a:ext cx="7772400" cy="1109520"/>
          </a:xfrm>
          <a:prstGeom prst="rect">
            <a:avLst/>
          </a:prstGeom>
          <a:ln w="0">
            <a:noFill/>
          </a:ln>
        </p:spPr>
      </p:pic>
      <p:sp>
        <p:nvSpPr>
          <p:cNvPr id="376"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77"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375"/>
                                        </p:tgtEl>
                                        <p:attrNameLst>
                                          <p:attrName>style.visibility</p:attrName>
                                        </p:attrNameLst>
                                      </p:cBhvr>
                                      <p:to>
                                        <p:strVal val="visible"/>
                                      </p:to>
                                    </p:set>
                                    <p:animEffect filter="fade" transition="in">
                                      <p:cBhvr additive="repl">
                                        <p:cTn id="7"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00" name="Picture 2" descr=""/>
          <p:cNvPicPr/>
          <p:nvPr/>
        </p:nvPicPr>
        <p:blipFill>
          <a:blip r:embed="rId1"/>
          <a:stretch/>
        </p:blipFill>
        <p:spPr>
          <a:xfrm>
            <a:off x="1600200" y="1523880"/>
            <a:ext cx="3286080" cy="2254320"/>
          </a:xfrm>
          <a:prstGeom prst="rect">
            <a:avLst/>
          </a:prstGeom>
          <a:ln w="0">
            <a:noFill/>
          </a:ln>
        </p:spPr>
      </p:pic>
      <p:pic>
        <p:nvPicPr>
          <p:cNvPr id="401" name="Picture 4" descr=""/>
          <p:cNvPicPr/>
          <p:nvPr/>
        </p:nvPicPr>
        <p:blipFill>
          <a:blip r:embed="rId2"/>
          <a:stretch/>
        </p:blipFill>
        <p:spPr>
          <a:xfrm>
            <a:off x="5105520" y="1371600"/>
            <a:ext cx="2781360" cy="2085840"/>
          </a:xfrm>
          <a:prstGeom prst="rect">
            <a:avLst/>
          </a:prstGeom>
          <a:ln w="0">
            <a:noFill/>
          </a:ln>
        </p:spPr>
      </p:pic>
      <p:pic>
        <p:nvPicPr>
          <p:cNvPr id="402" name="Picture 5" descr=""/>
          <p:cNvPicPr/>
          <p:nvPr/>
        </p:nvPicPr>
        <p:blipFill>
          <a:blip r:embed="rId3"/>
          <a:stretch/>
        </p:blipFill>
        <p:spPr>
          <a:xfrm>
            <a:off x="1600200" y="4629240"/>
            <a:ext cx="3429000" cy="2228760"/>
          </a:xfrm>
          <a:prstGeom prst="rect">
            <a:avLst/>
          </a:prstGeom>
          <a:ln w="0">
            <a:noFill/>
          </a:ln>
        </p:spPr>
      </p:pic>
      <p:pic>
        <p:nvPicPr>
          <p:cNvPr id="403" name="Picture 6" descr=""/>
          <p:cNvPicPr/>
          <p:nvPr/>
        </p:nvPicPr>
        <p:blipFill>
          <a:blip r:embed="rId4"/>
          <a:stretch/>
        </p:blipFill>
        <p:spPr>
          <a:xfrm>
            <a:off x="5181480" y="4876920"/>
            <a:ext cx="3589560" cy="1828800"/>
          </a:xfrm>
          <a:prstGeom prst="rect">
            <a:avLst/>
          </a:prstGeom>
          <a:ln w="0">
            <a:noFill/>
          </a:ln>
        </p:spPr>
      </p:pic>
      <p:pic>
        <p:nvPicPr>
          <p:cNvPr id="404" name="Picture 7" descr=""/>
          <p:cNvPicPr/>
          <p:nvPr/>
        </p:nvPicPr>
        <p:blipFill>
          <a:blip r:embed="rId5"/>
          <a:stretch/>
        </p:blipFill>
        <p:spPr>
          <a:xfrm>
            <a:off x="533520" y="2819520"/>
            <a:ext cx="2000160" cy="2286000"/>
          </a:xfrm>
          <a:prstGeom prst="rect">
            <a:avLst/>
          </a:prstGeom>
          <a:ln w="0">
            <a:noFill/>
          </a:ln>
        </p:spPr>
      </p:pic>
      <p:pic>
        <p:nvPicPr>
          <p:cNvPr id="405"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07"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0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0"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11"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12"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15" name="Content Placeholder 9" descr=""/>
          <p:cNvPicPr/>
          <p:nvPr/>
        </p:nvPicPr>
        <p:blipFill>
          <a:blip r:embed="rId1"/>
          <a:stretch/>
        </p:blipFill>
        <p:spPr>
          <a:xfrm>
            <a:off x="914400" y="585720"/>
            <a:ext cx="7772400" cy="6510240"/>
          </a:xfrm>
          <a:prstGeom prst="rect">
            <a:avLst/>
          </a:prstGeom>
          <a:ln w="0">
            <a:noFill/>
          </a:ln>
        </p:spPr>
      </p:pic>
      <p:sp>
        <p:nvSpPr>
          <p:cNvPr id="416"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1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19" name="Picture 2" descr=""/>
          <p:cNvPicPr/>
          <p:nvPr/>
        </p:nvPicPr>
        <p:blipFill>
          <a:blip r:embed="rId1"/>
          <a:stretch/>
        </p:blipFill>
        <p:spPr>
          <a:xfrm>
            <a:off x="5486400" y="4200480"/>
            <a:ext cx="2422440" cy="2657520"/>
          </a:xfrm>
          <a:prstGeom prst="rect">
            <a:avLst/>
          </a:prstGeom>
          <a:ln w="0">
            <a:noFill/>
          </a:ln>
        </p:spPr>
      </p:pic>
      <p:pic>
        <p:nvPicPr>
          <p:cNvPr id="420" name="Picture 3" descr=""/>
          <p:cNvPicPr/>
          <p:nvPr/>
        </p:nvPicPr>
        <p:blipFill>
          <a:blip r:embed="rId2"/>
          <a:stretch/>
        </p:blipFill>
        <p:spPr>
          <a:xfrm>
            <a:off x="1676520" y="4200480"/>
            <a:ext cx="2073240" cy="2657520"/>
          </a:xfrm>
          <a:prstGeom prst="rect">
            <a:avLst/>
          </a:prstGeom>
          <a:ln w="0">
            <a:noFill/>
          </a:ln>
        </p:spPr>
      </p:pic>
      <p:pic>
        <p:nvPicPr>
          <p:cNvPr id="421"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23" name="Picture 3" descr=""/>
          <p:cNvPicPr/>
          <p:nvPr/>
        </p:nvPicPr>
        <p:blipFill>
          <a:blip r:embed="rId1"/>
          <a:stretch/>
        </p:blipFill>
        <p:spPr>
          <a:xfrm>
            <a:off x="6324480" y="838080"/>
            <a:ext cx="2581560" cy="1771920"/>
          </a:xfrm>
          <a:prstGeom prst="rect">
            <a:avLst/>
          </a:prstGeom>
          <a:ln w="0">
            <a:noFill/>
          </a:ln>
        </p:spPr>
      </p:pic>
      <p:pic>
        <p:nvPicPr>
          <p:cNvPr id="424" name="Picture 4" descr=""/>
          <p:cNvPicPr/>
          <p:nvPr/>
        </p:nvPicPr>
        <p:blipFill>
          <a:blip r:embed="rId2"/>
          <a:stretch/>
        </p:blipFill>
        <p:spPr>
          <a:xfrm>
            <a:off x="3429000" y="838080"/>
            <a:ext cx="2701800" cy="1792440"/>
          </a:xfrm>
          <a:prstGeom prst="rect">
            <a:avLst/>
          </a:prstGeom>
          <a:ln w="0">
            <a:noFill/>
          </a:ln>
        </p:spPr>
      </p:pic>
      <p:pic>
        <p:nvPicPr>
          <p:cNvPr id="425"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7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80"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8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382">
                                            <p:txEl>
                                              <p:pRg st="5" end="5"/>
                                            </p:txEl>
                                          </p:spTgt>
                                        </p:tgtEl>
                                        <p:attrNameLst>
                                          <p:attrName>style.visibility</p:attrName>
                                        </p:attrNameLst>
                                      </p:cBhvr>
                                      <p:to>
                                        <p:strVal val="visible"/>
                                      </p:to>
                                    </p:set>
                                    <p:animEffect filter="fade" transition="in">
                                      <p:cBhvr additive="repl">
                                        <p:cTn id="14" dur="500"/>
                                        <p:tgtEl>
                                          <p:spTgt spid="3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38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8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38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0"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391" name="Picture 2" descr=""/>
          <p:cNvPicPr/>
          <p:nvPr/>
        </p:nvPicPr>
        <p:blipFill>
          <a:blip r:embed="rId2"/>
          <a:stretch/>
        </p:blipFill>
        <p:spPr>
          <a:xfrm>
            <a:off x="6629400" y="1523880"/>
            <a:ext cx="1847880" cy="2467080"/>
          </a:xfrm>
          <a:prstGeom prst="rect">
            <a:avLst/>
          </a:prstGeom>
          <a:ln w="0">
            <a:noFill/>
          </a:ln>
        </p:spPr>
      </p:pic>
      <p:sp>
        <p:nvSpPr>
          <p:cNvPr id="392"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baseline="30000">
                <a:solidFill>
                  <a:srgbClr val="ffffff"/>
                </a:solidFill>
                <a:latin typeface="Corbel"/>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394" name=""/>
          <p:cNvSpPr txBox="1"/>
          <p:nvPr/>
        </p:nvSpPr>
        <p:spPr>
          <a:xfrm>
            <a:off x="914400" y="1784520"/>
            <a:ext cx="3200400" cy="4572000"/>
          </a:xfrm>
          <a:prstGeom prst="rect">
            <a:avLst/>
          </a:prstGeom>
          <a:noFill/>
          <a:ln w="0">
            <a:noFill/>
          </a:ln>
        </p:spPr>
        <p:txBody>
          <a:bodyPr anchor="t">
            <a:normAutofit fontScale="94000"/>
          </a:bodyPr>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pirit entities are communicating through the Earth</a:t>
            </a:r>
            <a:endParaRPr b="0" lang="en-US" sz="3000" spc="-1" strike="noStrike">
              <a:solidFill>
                <a:srgbClr val="ffffff"/>
              </a:solidFill>
              <a:latin typeface="Corbel"/>
            </a:endParaRPr>
          </a:p>
          <a:p>
            <a:pPr marL="386280" indent="-321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386280" indent="-32184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University math students are playing a prank</a:t>
            </a:r>
            <a:endParaRPr b="0" lang="en-US" sz="3000" spc="-1" strike="noStrike">
              <a:solidFill>
                <a:srgbClr val="ffffff"/>
              </a:solidFill>
              <a:latin typeface="Corbel"/>
            </a:endParaRPr>
          </a:p>
        </p:txBody>
      </p:sp>
      <p:pic>
        <p:nvPicPr>
          <p:cNvPr id="395" name="Picture 2" descr="http://static.ddmcdn.com/gif/crop-circle-12.jpg"/>
          <p:cNvPicPr/>
          <p:nvPr/>
        </p:nvPicPr>
        <p:blipFill>
          <a:blip r:embed="rId1"/>
          <a:stretch/>
        </p:blipFill>
        <p:spPr>
          <a:xfrm>
            <a:off x="4521240" y="1828800"/>
            <a:ext cx="4165560" cy="3124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397"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98"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Administrator</cp:lastModifiedBy>
  <dcterms:modified xsi:type="dcterms:W3CDTF">2013-02-27T18:51:37Z</dcterms:modified>
  <cp:revision>3</cp:revision>
  <dc:subject/>
  <dc:title>Nature of science</dc:title>
</cp:coreProperties>
</file>