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26D3-A44B-4B09-9973-4B945DCB4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7540-B3AF-4B36-8441-DA258004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EF28-151D-4895-82B4-972B1C034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9988-47D8-4D53-B669-7B1F48CC8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A394-C812-4E6D-B495-7943916F2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B079-A888-48C8-8206-05D1BDF2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70C4-2CD4-44D0-A038-2825C60E9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0D46-2C8B-4D75-B9E3-79FFD3FA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D7EC-4CCA-4DB3-ADED-F4F775D3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91D7-90E1-4D6B-BFAC-18A29624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579C-1D1D-4099-8B6B-024DB51D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6C28-C36F-40EA-9FA3-51885CC01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9E71E-2EDB-4A17-A11B-291AA2F7B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rds.yahoo.com/_ylt=A0WTb_laPSRJVoEAjXijzbkF/SIG=127pft7rg/EXP=1227198170/**http%3A/www.ala.org/Images/ALSC/images/snowflake.jpg"/>
          <p:cNvPicPr/>
          <p:nvPr/>
        </p:nvPicPr>
        <p:blipFill>
          <a:blip r:embed="rId1"/>
          <a:stretch/>
        </p:blipFill>
        <p:spPr>
          <a:xfrm>
            <a:off x="1828800" y="609480"/>
            <a:ext cx="563868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" name="Picture 2" descr="Image:SnowflakesWilsonBentley.jpg"/>
          <p:cNvPicPr/>
          <p:nvPr/>
        </p:nvPicPr>
        <p:blipFill>
          <a:blip r:embed="rId1"/>
          <a:stretch/>
        </p:blipFill>
        <p:spPr>
          <a:xfrm>
            <a:off x="838080" y="487440"/>
            <a:ext cx="7467840" cy="58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its.caltech.edu/~atomic/snowcrystals/vermont/xSaksNewYork.jpg"/>
          <p:cNvPicPr/>
          <p:nvPr/>
        </p:nvPicPr>
        <p:blipFill>
          <a:blip r:embed="rId1"/>
          <a:stretch/>
        </p:blipFill>
        <p:spPr>
          <a:xfrm>
            <a:off x="380880" y="685800"/>
            <a:ext cx="5588280" cy="419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anigami.com/jimwich/jimwich_archives/jw_snowflakes_2004_2005/MensaNewsletterClipart.jpg"/>
          <p:cNvPicPr/>
          <p:nvPr/>
        </p:nvPicPr>
        <p:blipFill>
          <a:blip r:embed="rId2"/>
          <a:stretch/>
        </p:blipFill>
        <p:spPr>
          <a:xfrm>
            <a:off x="914400" y="2743200"/>
            <a:ext cx="3629160" cy="278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www.anigami.com/jimwich/jimwich_archives/jw_snowflakes_2004_2005/Sears_Flyer.jpg"/>
          <p:cNvPicPr/>
          <p:nvPr/>
        </p:nvPicPr>
        <p:blipFill>
          <a:blip r:embed="rId3"/>
          <a:stretch/>
        </p:blipFill>
        <p:spPr>
          <a:xfrm>
            <a:off x="5029200" y="4191120"/>
            <a:ext cx="3629160" cy="1914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www.anigami.com/jimwich/jimwich_archives/jw_snowflakes_2004_2005/OldNavy_Flyer.jpg"/>
          <p:cNvPicPr/>
          <p:nvPr/>
        </p:nvPicPr>
        <p:blipFill>
          <a:blip r:embed="rId4"/>
          <a:stretch/>
        </p:blipFill>
        <p:spPr>
          <a:xfrm>
            <a:off x="2428920" y="685800"/>
            <a:ext cx="67150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lting 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what ways are the activities “inquiry-based”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what ways are the activities not like inquir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ould be done to make each more like inquir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s watch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schooltube.com/video/915b7e02b686405fa83c/Ice-Melting-Experiment--Jestangs-Science-Video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Integ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2855880" cy="3886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4800600" y="1295280"/>
            <a:ext cx="7162920" cy="94554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5181480" y="6019920"/>
            <a:ext cx="48769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8381880" y="1295280"/>
            <a:ext cx="4343400" cy="518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ding Sci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osi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arr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uise Rosenblat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ffer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esthe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6:21:57Z</dcterms:created>
  <dc:creator>Edward Robeck</dc:creator>
  <dc:description/>
  <dc:language>en-US</dc:language>
  <cp:lastModifiedBy>Information Technology</cp:lastModifiedBy>
  <dcterms:modified xsi:type="dcterms:W3CDTF">2010-03-01T18:45:59Z</dcterms:modified>
  <cp:revision>7</cp:revision>
  <dc:subject/>
  <dc:title>Slide 1</dc:title>
</cp:coreProperties>
</file>