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672B3-EB10-4685-B0DC-C7FDEDC69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0B4B2-15AA-4B67-AB2D-B25E46AB2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61E40-F3B1-4C72-8E7F-EBD9B24A7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9F91D-92AD-4B49-B867-BAFE2EB5A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E4D17-3EF9-4EF0-9D49-387560CB6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3AB98-1F9F-4A9C-B046-4506C743B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AFD09-8864-4740-863A-AB23D9F04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D7E70-E2A3-4E77-ACA2-FB3433C8C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262DE-4B81-49A2-BBC9-51850F133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B8D89-97E8-4B13-B65C-163CE80C1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7CF5A-2C3D-4B3B-AEC7-2C396CEBE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08EC9-470C-492E-9395-C22BB0B2C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A66B0-0644-4B96-8DC5-77A750C04A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http://rds.yahoo.com/_ylt=A0WTb_laPSRJVoEAjXijzbkF/SIG=127pft7rg/EXP=1227198170/**http%3A/www.ala.org/Images/ALSC/images/snowflake.jpg"/>
          <p:cNvPicPr/>
          <p:nvPr/>
        </p:nvPicPr>
        <p:blipFill>
          <a:blip r:embed="rId1"/>
          <a:stretch/>
        </p:blipFill>
        <p:spPr>
          <a:xfrm>
            <a:off x="1828800" y="609480"/>
            <a:ext cx="5638680" cy="588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6" name="Picture 2" descr="Image:SnowflakesWilsonBentley.jpg"/>
          <p:cNvPicPr/>
          <p:nvPr/>
        </p:nvPicPr>
        <p:blipFill>
          <a:blip r:embed="rId1"/>
          <a:stretch/>
        </p:blipFill>
        <p:spPr>
          <a:xfrm>
            <a:off x="838080" y="487440"/>
            <a:ext cx="7467840" cy="583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http://www.its.caltech.edu/~atomic/snowcrystals/vermont/xSaksNewYork.jpg"/>
          <p:cNvPicPr/>
          <p:nvPr/>
        </p:nvPicPr>
        <p:blipFill>
          <a:blip r:embed="rId1"/>
          <a:stretch/>
        </p:blipFill>
        <p:spPr>
          <a:xfrm>
            <a:off x="380880" y="685800"/>
            <a:ext cx="5588280" cy="41911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http://www.anigami.com/jimwich/jimwich_archives/jw_snowflakes_2004_2005/MensaNewsletterClipart.jpg"/>
          <p:cNvPicPr/>
          <p:nvPr/>
        </p:nvPicPr>
        <p:blipFill>
          <a:blip r:embed="rId2"/>
          <a:stretch/>
        </p:blipFill>
        <p:spPr>
          <a:xfrm>
            <a:off x="914400" y="2743200"/>
            <a:ext cx="3629160" cy="27813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8" descr="http://www.anigami.com/jimwich/jimwich_archives/jw_snowflakes_2004_2005/Sears_Flyer.jpg"/>
          <p:cNvPicPr/>
          <p:nvPr/>
        </p:nvPicPr>
        <p:blipFill>
          <a:blip r:embed="rId3"/>
          <a:stretch/>
        </p:blipFill>
        <p:spPr>
          <a:xfrm>
            <a:off x="5029200" y="4191120"/>
            <a:ext cx="3629160" cy="19144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http://www.anigami.com/jimwich/jimwich_archives/jw_snowflakes_2004_2005/OldNavy_Flyer.jpg"/>
          <p:cNvPicPr/>
          <p:nvPr/>
        </p:nvPicPr>
        <p:blipFill>
          <a:blip r:embed="rId4"/>
          <a:stretch/>
        </p:blipFill>
        <p:spPr>
          <a:xfrm>
            <a:off x="2428920" y="685800"/>
            <a:ext cx="671508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elting I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684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what ways are the activities “inquiry-based”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what ways are the activities not like inquir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could be done to make each more like inquir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ts watch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ttp://www.schooltube.com/video/915b7e02b686405fa83c/Ice-Melting-Experiment--Jestangs-Science-Video-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rriculum Integ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990720" y="1828800"/>
            <a:ext cx="2855880" cy="38862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" descr=""/>
          <p:cNvPicPr/>
          <p:nvPr/>
        </p:nvPicPr>
        <p:blipFill>
          <a:blip r:embed="rId2"/>
          <a:stretch/>
        </p:blipFill>
        <p:spPr>
          <a:xfrm>
            <a:off x="4800600" y="1295280"/>
            <a:ext cx="7162920" cy="945540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5"/>
          <p:cNvSpPr/>
          <p:nvPr/>
        </p:nvSpPr>
        <p:spPr>
          <a:xfrm>
            <a:off x="5181480" y="6019920"/>
            <a:ext cx="487692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7"/>
          <p:cNvSpPr/>
          <p:nvPr/>
        </p:nvSpPr>
        <p:spPr>
          <a:xfrm>
            <a:off x="8381880" y="1295280"/>
            <a:ext cx="4343400" cy="5181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ading Sci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xposito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Narra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ouise Rosenblat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ffer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estheti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9T16:21:57Z</dcterms:created>
  <dc:creator>Edward Robeck</dc:creator>
  <dc:description/>
  <dc:language>en-US</dc:language>
  <cp:lastModifiedBy>Information Technology</cp:lastModifiedBy>
  <dcterms:modified xsi:type="dcterms:W3CDTF">2010-03-01T18:45:59Z</dcterms:modified>
  <cp:revision>7</cp:revision>
  <dc:subject/>
  <dc:title>Slide 1</dc:title>
</cp:coreProperties>
</file>