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0A90-CDDC-4FE1-8804-E90E1AC5D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472-DB1A-4FA9-9577-8F25C3FC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6B1B-D136-4C0C-B6F0-DE220455B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1F03-4822-456B-96F7-0666FC2BC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F1B2-B4FC-4BC7-B98A-09F5A1BC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ED3B-5772-4BDF-8D4D-A40D2118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A0F3-8BF4-4556-9252-03C490BB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4C6-34D8-4849-8DEE-CF5C529F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2961-D4FE-4991-8C5C-D82EEBCA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B59-663F-4536-B686-04872585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7E3B-E3AD-4E2C-9FAE-DD6E9FFD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B6BAE-32AD-4762-835D-F0805BC7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43D6B-ED1E-40DA-B087-0F1FB23F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ttp://rds.yahoo.com/_ylt=A0WTb_laPSRJVoEAjXijzbkF/SIG=127pft7rg/EXP=1227198170/**http%3A/www.ala.org/Images/ALSC/images/snowflake.jpg"/>
          <p:cNvPicPr/>
          <p:nvPr/>
        </p:nvPicPr>
        <p:blipFill>
          <a:blip r:embed="rId1"/>
          <a:stretch/>
        </p:blipFill>
        <p:spPr>
          <a:xfrm>
            <a:off x="1828800" y="609480"/>
            <a:ext cx="5638680" cy="588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6" name="Picture 2" descr="Image:SnowflakesWilsonBentley.jpg"/>
          <p:cNvPicPr/>
          <p:nvPr/>
        </p:nvPicPr>
        <p:blipFill>
          <a:blip r:embed="rId1"/>
          <a:stretch/>
        </p:blipFill>
        <p:spPr>
          <a:xfrm>
            <a:off x="838080" y="487440"/>
            <a:ext cx="746784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its.caltech.edu/~atomic/snowcrystals/vermont/xSaksNewYork.jpg"/>
          <p:cNvPicPr/>
          <p:nvPr/>
        </p:nvPicPr>
        <p:blipFill>
          <a:blip r:embed="rId1"/>
          <a:stretch/>
        </p:blipFill>
        <p:spPr>
          <a:xfrm>
            <a:off x="380880" y="685800"/>
            <a:ext cx="5588280" cy="4191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http://www.anigami.com/jimwich/jimwich_archives/jw_snowflakes_2004_2005/MensaNewsletterClipart.jpg"/>
          <p:cNvPicPr/>
          <p:nvPr/>
        </p:nvPicPr>
        <p:blipFill>
          <a:blip r:embed="rId2"/>
          <a:stretch/>
        </p:blipFill>
        <p:spPr>
          <a:xfrm>
            <a:off x="914400" y="2743200"/>
            <a:ext cx="3629160" cy="278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" descr="http://www.anigami.com/jimwich/jimwich_archives/jw_snowflakes_2004_2005/Sears_Flyer.jpg"/>
          <p:cNvPicPr/>
          <p:nvPr/>
        </p:nvPicPr>
        <p:blipFill>
          <a:blip r:embed="rId3"/>
          <a:stretch/>
        </p:blipFill>
        <p:spPr>
          <a:xfrm>
            <a:off x="5029200" y="4191120"/>
            <a:ext cx="3629160" cy="19144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anigami.com/jimwich/jimwich_archives/jw_snowflakes_2004_2005/OldNavy_Flyer.jpg"/>
          <p:cNvPicPr/>
          <p:nvPr/>
        </p:nvPicPr>
        <p:blipFill>
          <a:blip r:embed="rId4"/>
          <a:stretch/>
        </p:blipFill>
        <p:spPr>
          <a:xfrm>
            <a:off x="2428920" y="685800"/>
            <a:ext cx="671508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lting I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“inquiry-based”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what ways are the activities not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could be done to make each more like inquir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ts watch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ttp://www.schooltube.com/video/915b7e02b686405fa83c/Ice-Melting-Experiment--Jestangs-Science-Video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rriculum Integ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990720" y="1828800"/>
            <a:ext cx="2855880" cy="3886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7162920" cy="94554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5"/>
          <p:cNvSpPr/>
          <p:nvPr/>
        </p:nvSpPr>
        <p:spPr>
          <a:xfrm>
            <a:off x="5181480" y="6019920"/>
            <a:ext cx="487692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7"/>
          <p:cNvSpPr/>
          <p:nvPr/>
        </p:nvSpPr>
        <p:spPr>
          <a:xfrm>
            <a:off x="8381880" y="1295280"/>
            <a:ext cx="4343400" cy="5181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ading Sci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xposi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arr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uise Rosenbla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ffer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esthe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6:21:57Z</dcterms:created>
  <dc:creator>Edward Robeck</dc:creator>
  <dc:description/>
  <dc:language>en-US</dc:language>
  <cp:lastModifiedBy>Information Technology</cp:lastModifiedBy>
  <dcterms:modified xsi:type="dcterms:W3CDTF">2010-03-01T18:45:59Z</dcterms:modified>
  <cp:revision>7</cp:revision>
  <dc:subject/>
  <dc:title>Slide 1</dc:title>
</cp:coreProperties>
</file>