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1728-2327-440C-A653-62665D32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256D-2262-40DC-AF46-A6CBE83DE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C5D3-F682-4235-B130-677FB69A4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CCB8F-1AB9-478F-8BE5-EE680CD6B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5E0F1-1489-4ED3-9FEA-34B99A873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13A49-013E-49B9-88B3-A6EEF7F2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D8E25-39FE-4890-BA66-B19D0EC8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E9B3-733D-4CA1-8AB0-4B71FE32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9E85D-B545-4F28-80FD-A4B5C0C34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3B7B-4CC4-4E42-B04B-65E0A1E5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07B54-67BE-4284-9526-0C37BF06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AF64-728B-4FA5-98A0-0BCA9DF7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7046-033C-4C4F-B2F5-28A2718F5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266F-F62E-4DF6-AA63-65D56D86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0BE54-FD04-4B39-8630-A0B45201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CF44E-4486-4CE8-837E-8B745DD3C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1E68-8257-4EEE-BABB-14AD3DEA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3CAF-F8CA-43CD-AC7D-AD114DC4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ACF2-DAAD-4D8F-9B03-C7945724B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96CE-0234-4A24-B311-F728EEE33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AF88-9BEE-4FEC-9EEB-B48F66B3C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1DBE-C9C9-4979-9AB4-F56FB6E6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4562-94CE-4D16-A0C4-96EFC68F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6ED5-546A-4D55-AA4A-DB162BDC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1B9EF-DDC1-4B22-9FD8-0ECC542D7462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C51D-7EE8-4D08-875A-FDCDD8A0A957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33904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1800"/>
            <a:ext cx="6400800" cy="23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ich leads to the question, which is more important, perhaps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Book Antiqua"/>
              </a:rPr>
              <a:t>WHY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IS THE SCIENCE CURRICULUM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lf as explainer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lid foundations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cience-Technology-Decisions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cientific skills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rrect explanations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Everyday coping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Nature of Science*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 Antiqua"/>
              </a:rPr>
              <a:t>From Roberts, D. (1982).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EM = Science, Technology, Engineering, Mathematic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orkforce—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Highest paying jobs http://wiki.answers.com/Q/What_are_the_highest_paying_job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restige/Pride http://www.usatoday.com/money/economy/employment/2005-05-23-prestige-usat_x.htm http://www.usnews.com/usnews/biztech/articles/070802/2prestige.htm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mal Curriculum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– What is supposed to be included (a.k.a. the Explicit Curriculum)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Null Curriculu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—What is left out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Hidden Curriculu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—What is taught unintentionall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Curriculum in Use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—What is really taugh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Emergent Curriculu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—What comes about through interaction with student interests and current even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 Antiqua"/>
              </a:rPr>
              <a:t>Received Curriculum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—What students lear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andard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ublished curriculum materia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upplemental material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rade publication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tudent interest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eacher creativit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25600" indent="-3945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ith apologies to Miriam Ben-Peretz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is intended by the developers is not necessarily how curriculum materials are use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eachers interpret curriculum materials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25600" indent="-39456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terpretation of curriculum materials, or any materials, depends on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eachers’ creative abilities,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nowledge of curriculum,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nowledge of subject matter,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knowledge of discipline,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33400" indent="-27108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e context in which the teacher work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19840" indent="-390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world according to Robeck…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t its best, “curriculum” is intentional and responsive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t its best, “curriculum” makes use of the widest possible array of resources in an effort to help learning occu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19840" indent="-390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t its best, “curriculum” is active in the lives of both the teacher and the student in several ways, at several levels both in and out of school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what we have done so far in this class, find examples for each of the ideas in this presentation, if you can…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ich of the ideas were easiest to find examples of? Which were hardest? Why do you suppose that i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might be the consequences of practicing teaching without knowledge of each of these ideas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at are the abilities implied by each idea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3:31:38Z</dcterms:created>
  <dc:creator>Information Technology</dc:creator>
  <dc:description/>
  <dc:language>en-US</dc:language>
  <cp:lastModifiedBy>Information Technology</cp:lastModifiedBy>
  <dcterms:modified xsi:type="dcterms:W3CDTF">2010-02-22T14:38:28Z</dcterms:modified>
  <cp:revision>8</cp:revision>
  <dc:subject/>
  <dc:title>What is the Science Curriculum?</dc:title>
</cp:coreProperties>
</file>