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85BD-F68E-4D34-8A78-9532DF09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BDF9-EF1F-44A9-8ED0-74BFEA50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A53-0D70-45D7-B784-89A02908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AA3-5397-4750-A120-6645FC34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83A6-0311-4C78-AA7B-5956B920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9D10-2240-4302-897E-5254C53B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FAA4-73A0-4CE5-8D41-C3EC2343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05D3-9E0B-40E1-86CD-65223EA7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F136-D91D-41C4-A14D-01C58C51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CC8E-ADED-4AFA-8482-95281798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EC8F-BD61-4491-B268-6800069E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24D0-00AD-4107-A359-D9FD0CC5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80DD-80AE-49EE-9906-2E1E4F36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39A2-F686-4AFE-9CA7-DB9DE756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7BEE-B3D3-4721-9AB8-F1FE18EC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D038-A18C-4681-A2FD-AF1F82ED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A8B6-08F1-48EA-8610-F27C5BD8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662-BDE3-4E1C-833C-B0919D6A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FA5-351D-4E0B-BE7D-541D97ED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0FD5-D60F-4DC5-93A4-41E64C41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BD47-34FC-4D1C-BA1A-8C4E1DD0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D24-DFEC-4502-998D-4A63B94E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8718-967B-4E09-9766-D2A395FF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B6F-CF01-4F8C-A96D-26BD9F83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0E8E-37C0-4C44-9EE7-B24999EB5E3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EA0B-CAF9-4C42-A38E-7484749CB73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33904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ch leads to the question, which is more important, perhaps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WH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S THE SCIENCE CURRICULUM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f as explainer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id foundat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ience-Technology-Decis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ientific skill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rrect explanat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eryday coping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ture of Science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rom Roberts, D. (1982)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M = Science, Technology, Engineering, Mathematic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kforce—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ighest paying jobs http://wiki.answers.com/Q/What_are_the_highest_paying_job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stige/Pride http://www.usatoday.com/money/economy/employment/2005-05-23-prestige-usat_x.htm http://www.usnews.com/usnews/biztech/articles/070802/2prestige.ht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mal Curriculum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– What is supposed to be included (a.k.a. the Explicit Curriculum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ull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left ou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dden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taught unintentionall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urriculum in Us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really taug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mergent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comes about through interaction with student interests and current ev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eived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students lear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and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ublished curriculum materi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pplemental materi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de public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udent interes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acher creativ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th apologies to Miriam Ben-Peret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intended by the developers is not necessarily how curriculum materials are us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achers interpret curriculum material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erpretation of curriculum materials, or any materials, depends 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eachers’ creative abilities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curriculum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subject matter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discipline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context in which the teacher wor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world according to Robeck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is intentional and responsiv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makes use of the widest possible array of resources in an effort to help learning occu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is active in the lives of both the teacher and the student in several ways, at several levels both in and out of school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what we have done so far in this class, find examples for each of the ideas in this presentation, if you can…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ch of the ideas were easiest to find examples of? Which were hardest? Why do you suppose that i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might be the consequences of practicing teaching without knowledge of each of these idea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are the abilities implied by each ide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31:38Z</dcterms:created>
  <dc:creator>Information Technology</dc:creator>
  <dc:description/>
  <dc:language>en-US</dc:language>
  <cp:lastModifiedBy>Information Technology</cp:lastModifiedBy>
  <dcterms:modified xsi:type="dcterms:W3CDTF">2010-02-22T14:38:28Z</dcterms:modified>
  <cp:revision>8</cp:revision>
  <dc:subject/>
  <dc:title>What is the Science Curriculum?</dc:title>
</cp:coreProperties>
</file>