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C344-F50C-4CE3-95BD-8AA54E4E1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CCCA-77F7-4A4E-A237-9323827D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8FA0-2BC2-4CCA-A650-330DD0970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3BF7-3E85-4CDF-9B8A-5B8A3ED98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5632-0230-4C65-AF7D-BC3A9EC01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830E6-CAC9-488E-AA3D-757E30FF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1BEF-0BE4-4CD6-9C4B-27EF9FE3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2810-B457-4B2C-8229-635580D4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D0F53-5E3F-4713-A109-3A5C3E4C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CB51-28E2-460F-AFAC-A68D991C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C2AC-8BBB-4456-AF04-5F7CFE99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6ADB-4DB9-4C48-B552-1B79C17C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804D-E39C-4454-808E-849FABB6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95AC-E4C7-4F20-AC45-6DF710D7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3182-3C6D-48C6-BBED-BCFFA021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50642-6E92-4982-9689-40BE97B01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D3155-D2C5-4A30-9D41-629D8777A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4C22-190F-46C1-A3CD-CAC9D9C2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87F6-05F4-49B4-9393-B17DD0AE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0253-FD92-4F62-956F-6C462664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AD08-1FEE-4388-BE8B-791AA634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D89B-1031-4594-8882-6DADFF46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A877-A6C5-41D9-8D08-89BFB6DC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F5AE-F449-43FE-8F3E-B3D638A7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A2FE-38D7-423A-AE8B-08762D8DFFD7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2816-C255-45DD-9868-AB0149C113F6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33904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1800"/>
            <a:ext cx="6400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ich leads to the question, which is more important, perhaps…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Book Antiqua"/>
              </a:rPr>
              <a:t>WHY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IS THE SCIENCE CURRICULUM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lf as explainer*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lid foundations*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cience-Technology-Decisions*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cientific skills*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rrect explanations*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veryday coping*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ature of Science*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rom Roberts, D. (1982)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EM = Science, Technology, Engineering, Mathematic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orkforce—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ighest paying jobs http://wiki.answers.com/Q/What_are_the_highest_paying_job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restige/Pride http://www.usatoday.com/money/economy/employment/2005-05-23-prestige-usat_x.htm http://www.usnews.com/usnews/biztech/articles/070802/2prestige.ht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mal Curriculum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– What is supposed to be included (a.k.a. the Explicit Curriculum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ull Curriculum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—What is left out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idden Curriculum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—What is taught unintentionall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urriculum in Us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—What is really taugh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mergent Curriculum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—What comes about through interaction with student interests and current even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ceived Curriculum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—What students lear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andard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ublished curriculum materia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upplemental materia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rade publicati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udent interes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eacher creativ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25600" indent="-394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ith apologies to Miriam Ben-Peretz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is intended by the developers is not necessarily how curriculum materials are use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eachers interpret curriculum material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terpretation of curriculum materials, or any materials, depends 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eachers’ creative abilities,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knowledge of curriculum,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knowledge of subject matter,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knowledge of discipline,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context in which the teacher work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19840" indent="-390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world according to Robeck…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t its best, “curriculum” is intentional and responsive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t its best, “curriculum” makes use of the widest possible array of resources in an effort to help learning occur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t its best, “curriculum” is active in the lives of both the teacher and the student in several ways, at several levels both in and out of school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 what we have done so far in this class, find examples for each of the ideas in this presentation, if you can…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ich of the ideas were easiest to find examples of? Which were hardest? Why do you suppose that is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might be the consequences of practicing teaching without knowledge of each of these ideas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are the abilities implied by each idea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3:31:38Z</dcterms:created>
  <dc:creator>Information Technology</dc:creator>
  <dc:description/>
  <dc:language>en-US</dc:language>
  <cp:lastModifiedBy>Information Technology</cp:lastModifiedBy>
  <dcterms:modified xsi:type="dcterms:W3CDTF">2010-02-22T14:38:28Z</dcterms:modified>
  <cp:revision>8</cp:revision>
  <dc:subject/>
  <dc:title>What is the Science Curriculum?</dc:title>
</cp:coreProperties>
</file>